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10.gif" ContentType="image/gif"/>
  <Override PartName="/ppt/media/image11.gif" ContentType="image/gif"/>
  <Override PartName="/ppt/media/typ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5B8-7BD5-4239-8AA9-9F24FE62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663-333A-4D14-A1E0-A5831714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351-CA4C-4F56-AFD0-4E111504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64C-5B2B-4DD5-8342-55A9B63E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60F-CB4D-4B87-B9A9-3E9C8D84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B7E-0594-4C4E-9D76-0D8A603E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757-89AD-4E8F-89D3-506E6BBB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CF3-F23D-49EA-B989-BB75C358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D94-27CC-4A5A-9278-331AA6BD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1DB-9F80-4022-BEB3-9C919F20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645-4BBB-449D-A30F-61479790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80B-24F1-48E4-8A13-92051AC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5D03-9B64-4DC6-919E-02222546F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2204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11.2.2</a:t>
            </a:r>
            <a:r>
              <a:rPr b="1" lang="zh-TW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三</a:t>
            </a:r>
            <a:r>
              <a:rPr b="1" lang="zh-CN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角</a:t>
            </a:r>
            <a:r>
              <a:rPr b="1" lang="zh-TW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形外</a:t>
            </a:r>
            <a:r>
              <a:rPr b="1" lang="zh-CN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bd05097_"/>
          <p:cNvPicPr/>
          <p:nvPr/>
        </p:nvPicPr>
        <p:blipFill>
          <a:blip r:embed="rId1"/>
          <a:stretch/>
        </p:blipFill>
        <p:spPr>
          <a:xfrm>
            <a:off x="6012000" y="3817800"/>
            <a:ext cx="2590560" cy="2667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609480" y="4572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93640" y="581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60480" y="-65160"/>
            <a:ext cx="4572000" cy="2894040"/>
            <a:chOff x="60480" y="-65160"/>
            <a:chExt cx="4572000" cy="2894040"/>
          </a:xfrm>
        </p:grpSpPr>
        <p:grpSp>
          <p:nvGrpSpPr>
            <p:cNvPr id="170" name="Group 3"/>
            <p:cNvGrpSpPr/>
            <p:nvPr/>
          </p:nvGrpSpPr>
          <p:grpSpPr>
            <a:xfrm>
              <a:off x="60480" y="-65160"/>
              <a:ext cx="4572000" cy="2894040"/>
              <a:chOff x="60480" y="-65160"/>
              <a:chExt cx="4572000" cy="2894040"/>
            </a:xfrm>
          </p:grpSpPr>
          <p:sp>
            <p:nvSpPr>
              <p:cNvPr id="171" name="Text Box 4"/>
              <p:cNvSpPr/>
              <p:nvPr/>
            </p:nvSpPr>
            <p:spPr>
              <a:xfrm>
                <a:off x="60480" y="-65160"/>
                <a:ext cx="4572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试试看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求下列图中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</a:rPr>
                  <a:t>∠</a:t>
                </a: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的度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" y="1359000"/>
                <a:ext cx="2513160" cy="1469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Group 6"/>
            <p:cNvGrpSpPr/>
            <p:nvPr/>
          </p:nvGrpSpPr>
          <p:grpSpPr>
            <a:xfrm>
              <a:off x="601920" y="2006640"/>
              <a:ext cx="1928880" cy="712800"/>
              <a:chOff x="601920" y="2006640"/>
              <a:chExt cx="1928880" cy="712800"/>
            </a:xfrm>
          </p:grpSpPr>
          <mc:AlternateContent>
            <mc:Choice xmlns:a14="http://schemas.microsoft.com/office/drawing/2010/main" Requires="a14">
              <p:sp>
                <p:nvSpPr>
                  <p:cNvPr id="174" name="Object 7"/>
                  <p:cNvSpPr txBox="1"/>
                  <p:nvPr/>
                </p:nvSpPr>
                <p:spPr>
                  <a:xfrm>
                    <a:off x="601920" y="2249280"/>
                    <a:ext cx="812880" cy="47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Object 8"/>
                  <p:cNvSpPr txBox="1"/>
                  <p:nvPr/>
                </p:nvSpPr>
                <p:spPr>
                  <a:xfrm>
                    <a:off x="1549800" y="2214360"/>
                    <a:ext cx="660240" cy="46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6" name="Text Box 9"/>
              <p:cNvSpPr/>
              <p:nvPr/>
            </p:nvSpPr>
            <p:spPr>
              <a:xfrm>
                <a:off x="1997280" y="200664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组合 1"/>
          <p:cNvGrpSpPr/>
          <p:nvPr/>
        </p:nvGrpSpPr>
        <p:grpSpPr>
          <a:xfrm>
            <a:off x="2908440" y="1179360"/>
            <a:ext cx="4590720" cy="1714680"/>
            <a:chOff x="2908440" y="1179360"/>
            <a:chExt cx="4590720" cy="1714680"/>
          </a:xfrm>
        </p:grpSpPr>
        <p:grpSp>
          <p:nvGrpSpPr>
            <p:cNvPr id="178" name="Group 10"/>
            <p:cNvGrpSpPr/>
            <p:nvPr/>
          </p:nvGrpSpPr>
          <p:grpSpPr>
            <a:xfrm>
              <a:off x="5038200" y="1179360"/>
              <a:ext cx="2460960" cy="1695960"/>
              <a:chOff x="5038200" y="1179360"/>
              <a:chExt cx="2460960" cy="1695960"/>
            </a:xfrm>
          </p:grpSpPr>
          <p:pic>
            <p:nvPicPr>
              <p:cNvPr id="179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5038200" y="1179360"/>
                <a:ext cx="2125800" cy="16959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80" name="Object 12"/>
                  <p:cNvSpPr txBox="1"/>
                  <p:nvPr/>
                </p:nvSpPr>
                <p:spPr>
                  <a:xfrm>
                    <a:off x="5502600" y="2378160"/>
                    <a:ext cx="532080" cy="44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1" name="Text Box 13"/>
              <p:cNvSpPr/>
              <p:nvPr/>
            </p:nvSpPr>
            <p:spPr>
              <a:xfrm>
                <a:off x="6234480" y="2153520"/>
                <a:ext cx="46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2" name="Object 14"/>
                  <p:cNvSpPr txBox="1"/>
                  <p:nvPr/>
                </p:nvSpPr>
                <p:spPr>
                  <a:xfrm>
                    <a:off x="6700680" y="1629000"/>
                    <a:ext cx="798480" cy="44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83" name="Group 24"/>
            <p:cNvGrpSpPr/>
            <p:nvPr/>
          </p:nvGrpSpPr>
          <p:grpSpPr>
            <a:xfrm>
              <a:off x="2908440" y="1291680"/>
              <a:ext cx="1929960" cy="1602360"/>
              <a:chOff x="2908440" y="1291680"/>
              <a:chExt cx="1929960" cy="1602360"/>
            </a:xfrm>
          </p:grpSpPr>
          <p:grpSp>
            <p:nvGrpSpPr>
              <p:cNvPr id="184" name="Group 23"/>
              <p:cNvGrpSpPr/>
              <p:nvPr/>
            </p:nvGrpSpPr>
            <p:grpSpPr>
              <a:xfrm>
                <a:off x="2908440" y="1291680"/>
                <a:ext cx="1929960" cy="1602360"/>
                <a:chOff x="2908440" y="1291680"/>
                <a:chExt cx="1929960" cy="1602360"/>
              </a:xfrm>
            </p:grpSpPr>
            <p:pic>
              <p:nvPicPr>
                <p:cNvPr id="185" name="Picture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08440" y="1291680"/>
                  <a:ext cx="1929960" cy="160236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186" name="Object 17"/>
                    <p:cNvSpPr txBox="1"/>
                    <p:nvPr/>
                  </p:nvSpPr>
                  <p:spPr>
                    <a:xfrm>
                      <a:off x="3307680" y="2415960"/>
                      <a:ext cx="510120" cy="401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87" name="Object 18"/>
                    <p:cNvSpPr txBox="1"/>
                    <p:nvPr/>
                  </p:nvSpPr>
                  <p:spPr>
                    <a:xfrm>
                      <a:off x="3906360" y="2380320"/>
                      <a:ext cx="465840" cy="410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88" name="Text Box 19"/>
              <p:cNvSpPr/>
              <p:nvPr/>
            </p:nvSpPr>
            <p:spPr>
              <a:xfrm>
                <a:off x="3241080" y="1816200"/>
                <a:ext cx="26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Text Box 2"/>
          <p:cNvSpPr/>
          <p:nvPr/>
        </p:nvSpPr>
        <p:spPr>
          <a:xfrm>
            <a:off x="-46080" y="3057480"/>
            <a:ext cx="930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如图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三个内角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三角形的外角，已知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=8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=1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度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530080" y="4092480"/>
            <a:ext cx="4417920" cy="2455560"/>
            <a:chOff x="2530080" y="4092480"/>
            <a:chExt cx="4417920" cy="2455560"/>
          </a:xfrm>
        </p:grpSpPr>
        <p:sp>
          <p:nvSpPr>
            <p:cNvPr id="191" name="AutoShape 4"/>
            <p:cNvSpPr/>
            <p:nvPr/>
          </p:nvSpPr>
          <p:spPr>
            <a:xfrm>
              <a:off x="3256560" y="4588200"/>
              <a:ext cx="2541600" cy="1158840"/>
            </a:xfrm>
            <a:prstGeom prst="triangle">
              <a:avLst>
                <a:gd name="adj" fmla="val 61111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"/>
            <p:cNvSpPr/>
            <p:nvPr/>
          </p:nvSpPr>
          <p:spPr>
            <a:xfrm flipH="1">
              <a:off x="2530080" y="5747040"/>
              <a:ext cx="726120" cy="54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6"/>
            <p:cNvSpPr/>
            <p:nvPr/>
          </p:nvSpPr>
          <p:spPr>
            <a:xfrm>
              <a:off x="5738040" y="5747040"/>
              <a:ext cx="1209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4427640" y="40924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2949840" y="529272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5630040" y="574704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rc 10"/>
            <p:cNvSpPr/>
            <p:nvPr/>
          </p:nvSpPr>
          <p:spPr>
            <a:xfrm flipV="1" rot="1561800">
              <a:off x="4527360" y="4724280"/>
              <a:ext cx="484200" cy="204480"/>
            </a:xfrm>
            <a:custGeom>
              <a:avLst/>
              <a:gdLst/>
              <a:ahLst/>
              <a:rect l="l" t="t" r="r" b="b"/>
              <a:pathLst>
                <a:path fill="none" w="21600" h="21468">
                  <a:moveTo>
                    <a:pt x="2384" y="0"/>
                  </a:moveTo>
                  <a:cubicBezTo>
                    <a:pt x="13324" y="1215"/>
                    <a:pt x="21600" y="10461"/>
                    <a:pt x="21600" y="21468"/>
                  </a:cubicBezTo>
                </a:path>
                <a:path stroke="0" w="21600" h="21468">
                  <a:moveTo>
                    <a:pt x="2384" y="0"/>
                  </a:moveTo>
                  <a:cubicBezTo>
                    <a:pt x="13324" y="1215"/>
                    <a:pt x="21600" y="10461"/>
                    <a:pt x="21600" y="21468"/>
                  </a:cubicBezTo>
                  <a:lnTo>
                    <a:pt x="0" y="21468"/>
                  </a:lnTo>
                  <a:lnTo>
                    <a:pt x="2384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4586040" y="48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rc 12"/>
            <p:cNvSpPr/>
            <p:nvPr/>
          </p:nvSpPr>
          <p:spPr>
            <a:xfrm>
              <a:off x="3619440" y="5474520"/>
              <a:ext cx="120960" cy="27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rc 13"/>
            <p:cNvSpPr/>
            <p:nvPr/>
          </p:nvSpPr>
          <p:spPr>
            <a:xfrm flipH="1">
              <a:off x="5495760" y="5474520"/>
              <a:ext cx="60480" cy="27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rc 14"/>
            <p:cNvSpPr/>
            <p:nvPr/>
          </p:nvSpPr>
          <p:spPr>
            <a:xfrm>
              <a:off x="3074760" y="5747040"/>
              <a:ext cx="423720" cy="272520"/>
            </a:xfrm>
            <a:custGeom>
              <a:avLst/>
              <a:gdLst/>
              <a:ahLst/>
              <a:rect l="l" t="t" r="r" b="b"/>
              <a:pathLst>
                <a:path fill="none" w="42926" h="29039">
                  <a:moveTo>
                    <a:pt x="-23932" y="0"/>
                  </a:moveTo>
                  <a:cubicBezTo>
                    <a:pt x="-23058" y="2382"/>
                    <a:pt x="-22610" y="4901"/>
                    <a:pt x="-22610" y="7439"/>
                  </a:cubicBezTo>
                  <a:cubicBezTo>
                    <a:pt x="-22610" y="19368"/>
                    <a:pt x="-32281" y="29039"/>
                    <a:pt x="21326" y="29039"/>
                  </a:cubicBezTo>
                  <a:cubicBezTo>
                    <a:pt x="10721" y="29039"/>
                    <a:pt x="1685" y="21340"/>
                    <a:pt x="0" y="10870"/>
                  </a:cubicBezTo>
                </a:path>
                <a:path stroke="0" w="42926" h="29039">
                  <a:moveTo>
                    <a:pt x="-23932" y="0"/>
                  </a:moveTo>
                  <a:cubicBezTo>
                    <a:pt x="-23058" y="2382"/>
                    <a:pt x="-22610" y="4901"/>
                    <a:pt x="-22610" y="7439"/>
                  </a:cubicBezTo>
                  <a:cubicBezTo>
                    <a:pt x="-22610" y="19368"/>
                    <a:pt x="-32281" y="29039"/>
                    <a:pt x="21326" y="29039"/>
                  </a:cubicBezTo>
                  <a:cubicBezTo>
                    <a:pt x="10721" y="29039"/>
                    <a:pt x="1685" y="21340"/>
                    <a:pt x="0" y="10870"/>
                  </a:cubicBezTo>
                  <a:lnTo>
                    <a:pt x="21326" y="7439"/>
                  </a:lnTo>
                  <a:lnTo>
                    <a:pt x="-2393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rc 15"/>
            <p:cNvSpPr/>
            <p:nvPr/>
          </p:nvSpPr>
          <p:spPr>
            <a:xfrm>
              <a:off x="5616720" y="5542560"/>
              <a:ext cx="484200" cy="20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6"/>
            <p:cNvSpPr/>
            <p:nvPr/>
          </p:nvSpPr>
          <p:spPr>
            <a:xfrm>
              <a:off x="3697560" y="53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7"/>
            <p:cNvSpPr/>
            <p:nvPr/>
          </p:nvSpPr>
          <p:spPr>
            <a:xfrm>
              <a:off x="5029200" y="53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3226320" y="608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5709960" y="5258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20"/>
          <p:cNvSpPr/>
          <p:nvPr/>
        </p:nvSpPr>
        <p:spPr>
          <a:xfrm>
            <a:off x="4378320" y="50385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6104880" y="507672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"/>
          <p:cNvSpPr/>
          <p:nvPr/>
        </p:nvSpPr>
        <p:spPr>
          <a:xfrm>
            <a:off x="179280" y="333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三角形的外角和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文本框 2"/>
          <p:cNvSpPr/>
          <p:nvPr/>
        </p:nvSpPr>
        <p:spPr>
          <a:xfrm>
            <a:off x="179280" y="12682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三角形的每一个顶点处各取一个外角，它们的和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6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组合 23"/>
          <p:cNvGrpSpPr/>
          <p:nvPr/>
        </p:nvGrpSpPr>
        <p:grpSpPr>
          <a:xfrm>
            <a:off x="5403960" y="1943280"/>
            <a:ext cx="3465000" cy="2751480"/>
            <a:chOff x="5403960" y="1943280"/>
            <a:chExt cx="3465000" cy="2751480"/>
          </a:xfrm>
        </p:grpSpPr>
        <p:grpSp>
          <p:nvGrpSpPr>
            <p:cNvPr id="212" name="Group 65"/>
            <p:cNvGrpSpPr/>
            <p:nvPr/>
          </p:nvGrpSpPr>
          <p:grpSpPr>
            <a:xfrm>
              <a:off x="5403960" y="1943280"/>
              <a:ext cx="3465000" cy="2751480"/>
              <a:chOff x="5403960" y="1943280"/>
              <a:chExt cx="3465000" cy="2751480"/>
            </a:xfrm>
          </p:grpSpPr>
          <p:sp>
            <p:nvSpPr>
              <p:cNvPr id="213" name="Oval 50"/>
              <p:cNvSpPr/>
              <p:nvPr/>
            </p:nvSpPr>
            <p:spPr>
              <a:xfrm>
                <a:off x="6909840" y="1943280"/>
                <a:ext cx="39600" cy="51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Oval 51"/>
              <p:cNvSpPr/>
              <p:nvPr/>
            </p:nvSpPr>
            <p:spPr>
              <a:xfrm>
                <a:off x="7901280" y="3950640"/>
                <a:ext cx="39240" cy="500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Oval 52"/>
              <p:cNvSpPr/>
              <p:nvPr/>
            </p:nvSpPr>
            <p:spPr>
              <a:xfrm>
                <a:off x="5403960" y="4516920"/>
                <a:ext cx="39600" cy="51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53"/>
              <p:cNvSpPr/>
              <p:nvPr/>
            </p:nvSpPr>
            <p:spPr>
              <a:xfrm>
                <a:off x="8829360" y="3950640"/>
                <a:ext cx="39600" cy="500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Oval 54"/>
              <p:cNvSpPr/>
              <p:nvPr/>
            </p:nvSpPr>
            <p:spPr>
              <a:xfrm>
                <a:off x="7330680" y="2794680"/>
                <a:ext cx="39600" cy="500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55"/>
              <p:cNvSpPr/>
              <p:nvPr/>
            </p:nvSpPr>
            <p:spPr>
              <a:xfrm>
                <a:off x="6045480" y="3950640"/>
                <a:ext cx="39600" cy="500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60"/>
              <p:cNvGrpSpPr/>
              <p:nvPr/>
            </p:nvGrpSpPr>
            <p:grpSpPr>
              <a:xfrm>
                <a:off x="5418720" y="1963440"/>
                <a:ext cx="3425400" cy="2573640"/>
                <a:chOff x="5418720" y="1963440"/>
                <a:chExt cx="3425400" cy="2573640"/>
              </a:xfrm>
            </p:grpSpPr>
            <p:sp>
              <p:nvSpPr>
                <p:cNvPr id="220" name="Line 47"/>
                <p:cNvSpPr/>
                <p:nvPr/>
              </p:nvSpPr>
              <p:spPr>
                <a:xfrm>
                  <a:off x="6926040" y="1963440"/>
                  <a:ext cx="991080" cy="200592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48"/>
                <p:cNvSpPr/>
                <p:nvPr/>
              </p:nvSpPr>
              <p:spPr>
                <a:xfrm flipH="1">
                  <a:off x="5418720" y="2814840"/>
                  <a:ext cx="1926360" cy="172224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49"/>
                <p:cNvSpPr/>
                <p:nvPr/>
              </p:nvSpPr>
              <p:spPr>
                <a:xfrm>
                  <a:off x="6061680" y="3969360"/>
                  <a:ext cx="2782440" cy="144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Arc 57"/>
                <p:cNvSpPr/>
                <p:nvPr/>
              </p:nvSpPr>
              <p:spPr>
                <a:xfrm>
                  <a:off x="7802640" y="3676680"/>
                  <a:ext cx="375120" cy="336960"/>
                </a:xfrm>
                <a:custGeom>
                  <a:avLst/>
                  <a:gdLst/>
                  <a:ahLst/>
                  <a:rect l="l" t="t" r="r" b="b"/>
                  <a:pathLst>
                    <a:path fill="none" w="38408" h="25168">
                      <a:moveTo>
                        <a:pt x="-1" y="8033"/>
                      </a:moveTo>
                      <a:cubicBezTo>
                        <a:pt x="4100" y="2953"/>
                        <a:pt x="10279" y="0"/>
                        <a:pt x="16808" y="0"/>
                      </a:cubicBezTo>
                      <a:cubicBezTo>
                        <a:pt x="28737" y="0"/>
                        <a:pt x="38408" y="9670"/>
                        <a:pt x="38408" y="21600"/>
                      </a:cubicBezTo>
                      <a:cubicBezTo>
                        <a:pt x="38408" y="22795"/>
                        <a:pt x="38308" y="23988"/>
                        <a:pt x="38111" y="25168"/>
                      </a:cubicBezTo>
                    </a:path>
                    <a:path stroke="0" w="38408" h="25168">
                      <a:moveTo>
                        <a:pt x="-1" y="8033"/>
                      </a:moveTo>
                      <a:cubicBezTo>
                        <a:pt x="4100" y="2953"/>
                        <a:pt x="10279" y="0"/>
                        <a:pt x="16808" y="0"/>
                      </a:cubicBezTo>
                      <a:cubicBezTo>
                        <a:pt x="28737" y="0"/>
                        <a:pt x="38408" y="9670"/>
                        <a:pt x="38408" y="21600"/>
                      </a:cubicBezTo>
                      <a:cubicBezTo>
                        <a:pt x="38408" y="22795"/>
                        <a:pt x="38308" y="23988"/>
                        <a:pt x="38111" y="25168"/>
                      </a:cubicBezTo>
                      <a:lnTo>
                        <a:pt x="16808" y="21600"/>
                      </a:lnTo>
                      <a:lnTo>
                        <a:pt x="-1" y="8033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Arc 58"/>
                <p:cNvSpPr/>
                <p:nvPr/>
              </p:nvSpPr>
              <p:spPr>
                <a:xfrm>
                  <a:off x="5821200" y="3818880"/>
                  <a:ext cx="455760" cy="367920"/>
                </a:xfrm>
                <a:custGeom>
                  <a:avLst/>
                  <a:gdLst/>
                  <a:ahLst/>
                  <a:rect l="l" t="t" r="r" b="b"/>
                  <a:pathLst>
                    <a:path fill="none" w="30771" h="21600">
                      <a:moveTo>
                        <a:pt x="30770" y="9152"/>
                      </a:moveTo>
                      <a:cubicBezTo>
                        <a:pt x="27217" y="16747"/>
                        <a:pt x="19590" y="21600"/>
                        <a:pt x="11206" y="21600"/>
                      </a:cubicBezTo>
                      <a:cubicBezTo>
                        <a:pt x="7254" y="21600"/>
                        <a:pt x="3378" y="20515"/>
                        <a:pt x="0" y="18465"/>
                      </a:cubicBezTo>
                    </a:path>
                    <a:path stroke="0" w="30771" h="21600">
                      <a:moveTo>
                        <a:pt x="30770" y="9152"/>
                      </a:moveTo>
                      <a:cubicBezTo>
                        <a:pt x="27217" y="16747"/>
                        <a:pt x="19590" y="21600"/>
                        <a:pt x="11206" y="21600"/>
                      </a:cubicBezTo>
                      <a:cubicBezTo>
                        <a:pt x="7254" y="21600"/>
                        <a:pt x="3378" y="20515"/>
                        <a:pt x="0" y="18465"/>
                      </a:cubicBezTo>
                      <a:lnTo>
                        <a:pt x="11206" y="0"/>
                      </a:lnTo>
                      <a:lnTo>
                        <a:pt x="30770" y="9152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Arc 59"/>
                <p:cNvSpPr/>
                <p:nvPr/>
              </p:nvSpPr>
              <p:spPr>
                <a:xfrm>
                  <a:off x="7001640" y="2572560"/>
                  <a:ext cx="281520" cy="470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1325">
                      <a:moveTo>
                        <a:pt x="2938" y="31325"/>
                      </a:moveTo>
                      <a:cubicBezTo>
                        <a:pt x="1014" y="28023"/>
                        <a:pt x="0" y="24269"/>
                        <a:pt x="0" y="20448"/>
                      </a:cubicBezTo>
                      <a:cubicBezTo>
                        <a:pt x="0" y="11201"/>
                        <a:pt x="5885" y="2980"/>
                        <a:pt x="14639" y="0"/>
                      </a:cubicBezTo>
                    </a:path>
                    <a:path stroke="0" w="21600" h="31325">
                      <a:moveTo>
                        <a:pt x="2938" y="31325"/>
                      </a:moveTo>
                      <a:cubicBezTo>
                        <a:pt x="1014" y="28023"/>
                        <a:pt x="0" y="24269"/>
                        <a:pt x="0" y="20448"/>
                      </a:cubicBezTo>
                      <a:cubicBezTo>
                        <a:pt x="0" y="11201"/>
                        <a:pt x="5885" y="2980"/>
                        <a:pt x="14639" y="0"/>
                      </a:cubicBezTo>
                      <a:lnTo>
                        <a:pt x="21600" y="20448"/>
                      </a:lnTo>
                      <a:lnTo>
                        <a:pt x="2938" y="31325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Text Box 61"/>
              <p:cNvSpPr/>
              <p:nvPr/>
            </p:nvSpPr>
            <p:spPr>
              <a:xfrm>
                <a:off x="6663240" y="2541960"/>
                <a:ext cx="22428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62"/>
              <p:cNvSpPr/>
              <p:nvPr/>
            </p:nvSpPr>
            <p:spPr>
              <a:xfrm>
                <a:off x="6719040" y="2612520"/>
                <a:ext cx="22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63"/>
              <p:cNvSpPr/>
              <p:nvPr/>
            </p:nvSpPr>
            <p:spPr>
              <a:xfrm>
                <a:off x="8065800" y="3264840"/>
                <a:ext cx="28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Text Box 64"/>
              <p:cNvSpPr/>
              <p:nvPr/>
            </p:nvSpPr>
            <p:spPr>
              <a:xfrm>
                <a:off x="6045480" y="4174200"/>
                <a:ext cx="28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Text Box 102"/>
            <p:cNvSpPr/>
            <p:nvPr/>
          </p:nvSpPr>
          <p:spPr>
            <a:xfrm>
              <a:off x="5897520" y="3743280"/>
              <a:ext cx="57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03"/>
            <p:cNvSpPr/>
            <p:nvPr/>
          </p:nvSpPr>
          <p:spPr>
            <a:xfrm>
              <a:off x="5593320" y="3562560"/>
              <a:ext cx="4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04"/>
            <p:cNvSpPr/>
            <p:nvPr/>
          </p:nvSpPr>
          <p:spPr>
            <a:xfrm>
              <a:off x="7349040" y="248436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05"/>
            <p:cNvSpPr/>
            <p:nvPr/>
          </p:nvSpPr>
          <p:spPr>
            <a:xfrm>
              <a:off x="7703280" y="393228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文本框 4"/>
          <p:cNvSpPr/>
          <p:nvPr/>
        </p:nvSpPr>
        <p:spPr>
          <a:xfrm>
            <a:off x="138240" y="3471840"/>
            <a:ext cx="60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∵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∴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=54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∵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=3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59"/>
          <p:cNvSpPr/>
          <p:nvPr/>
        </p:nvSpPr>
        <p:spPr>
          <a:xfrm flipH="1" flipV="1">
            <a:off x="6351480" y="3626640"/>
            <a:ext cx="100080" cy="366840"/>
          </a:xfrm>
          <a:custGeom>
            <a:avLst/>
            <a:gdLst/>
            <a:ahLst/>
            <a:rect l="l" t="t" r="r" b="b"/>
            <a:pathLst>
              <a:path fill="none" w="21600" h="31325">
                <a:moveTo>
                  <a:pt x="2938" y="31325"/>
                </a:moveTo>
                <a:cubicBezTo>
                  <a:pt x="1014" y="28023"/>
                  <a:pt x="0" y="24269"/>
                  <a:pt x="0" y="20448"/>
                </a:cubicBezTo>
                <a:cubicBezTo>
                  <a:pt x="0" y="11201"/>
                  <a:pt x="5885" y="2980"/>
                  <a:pt x="14639" y="0"/>
                </a:cubicBezTo>
              </a:path>
              <a:path stroke="0" w="21600" h="31325">
                <a:moveTo>
                  <a:pt x="2938" y="31325"/>
                </a:moveTo>
                <a:cubicBezTo>
                  <a:pt x="1014" y="28023"/>
                  <a:pt x="0" y="24269"/>
                  <a:pt x="0" y="20448"/>
                </a:cubicBezTo>
                <a:cubicBezTo>
                  <a:pt x="0" y="11201"/>
                  <a:pt x="5885" y="2980"/>
                  <a:pt x="14639" y="0"/>
                </a:cubicBezTo>
                <a:lnTo>
                  <a:pt x="21600" y="20448"/>
                </a:lnTo>
                <a:lnTo>
                  <a:pt x="2938" y="31325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59"/>
          <p:cNvSpPr/>
          <p:nvPr/>
        </p:nvSpPr>
        <p:spPr>
          <a:xfrm>
            <a:off x="7650000" y="3687840"/>
            <a:ext cx="206640" cy="325440"/>
          </a:xfrm>
          <a:custGeom>
            <a:avLst/>
            <a:gdLst/>
            <a:ahLst/>
            <a:rect l="l" t="t" r="r" b="b"/>
            <a:pathLst>
              <a:path fill="none" w="21600" h="31325">
                <a:moveTo>
                  <a:pt x="2938" y="31325"/>
                </a:moveTo>
                <a:cubicBezTo>
                  <a:pt x="1014" y="28023"/>
                  <a:pt x="0" y="24269"/>
                  <a:pt x="0" y="20448"/>
                </a:cubicBezTo>
                <a:cubicBezTo>
                  <a:pt x="0" y="11201"/>
                  <a:pt x="5885" y="2980"/>
                  <a:pt x="14639" y="0"/>
                </a:cubicBezTo>
              </a:path>
              <a:path stroke="0" w="21600" h="31325">
                <a:moveTo>
                  <a:pt x="2938" y="31325"/>
                </a:moveTo>
                <a:cubicBezTo>
                  <a:pt x="1014" y="28023"/>
                  <a:pt x="0" y="24269"/>
                  <a:pt x="0" y="20448"/>
                </a:cubicBezTo>
                <a:cubicBezTo>
                  <a:pt x="0" y="11201"/>
                  <a:pt x="5885" y="2980"/>
                  <a:pt x="14639" y="0"/>
                </a:cubicBezTo>
                <a:lnTo>
                  <a:pt x="21600" y="20448"/>
                </a:lnTo>
                <a:lnTo>
                  <a:pt x="2938" y="31325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3"/>
          <p:cNvSpPr/>
          <p:nvPr/>
        </p:nvSpPr>
        <p:spPr>
          <a:xfrm>
            <a:off x="7297560" y="3557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3"/>
          <p:cNvSpPr/>
          <p:nvPr/>
        </p:nvSpPr>
        <p:spPr>
          <a:xfrm>
            <a:off x="6464160" y="3471840"/>
            <a:ext cx="2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3"/>
          <p:cNvSpPr/>
          <p:nvPr/>
        </p:nvSpPr>
        <p:spPr>
          <a:xfrm>
            <a:off x="7067520" y="2914560"/>
            <a:ext cx="2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1393920" y="1614600"/>
            <a:ext cx="5181480" cy="4389480"/>
            <a:chOff x="1393920" y="1614600"/>
            <a:chExt cx="5181480" cy="4389480"/>
          </a:xfrm>
        </p:grpSpPr>
        <p:sp>
          <p:nvSpPr>
            <p:cNvPr id="242" name="Rectangle 4"/>
            <p:cNvSpPr/>
            <p:nvPr/>
          </p:nvSpPr>
          <p:spPr>
            <a:xfrm>
              <a:off x="1464840" y="1614600"/>
              <a:ext cx="235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图，计算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O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度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Picture 5" descr=""/>
            <p:cNvPicPr/>
            <p:nvPr/>
          </p:nvPicPr>
          <p:blipFill>
            <a:blip r:embed="rId1"/>
            <a:stretch/>
          </p:blipFill>
          <p:spPr>
            <a:xfrm>
              <a:off x="1393920" y="2117880"/>
              <a:ext cx="5181480" cy="3886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44" name="Object 6"/>
                <p:cNvSpPr txBox="1"/>
                <p:nvPr/>
              </p:nvSpPr>
              <p:spPr>
                <a:xfrm>
                  <a:off x="2536920" y="448020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Object 7"/>
                <p:cNvSpPr txBox="1"/>
                <p:nvPr/>
              </p:nvSpPr>
              <p:spPr>
                <a:xfrm>
                  <a:off x="4898880" y="4632480"/>
                  <a:ext cx="76212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Object 8"/>
                <p:cNvSpPr txBox="1"/>
                <p:nvPr/>
              </p:nvSpPr>
              <p:spPr>
                <a:xfrm>
                  <a:off x="3832200" y="3337200"/>
                  <a:ext cx="73656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1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47" name="Picture 9" descr="20031029175322380"/>
          <p:cNvPicPr/>
          <p:nvPr/>
        </p:nvPicPr>
        <p:blipFill>
          <a:blip r:embed="rId2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2895480" y="3348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让 我 们 一 起 去 发 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29400" y="244440"/>
            <a:ext cx="228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你认识外角吗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533520" y="15238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旗上的正五角星形如图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∠A+∠B+∠C+∠D+∠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685800" y="0"/>
            <a:ext cx="6095880" cy="1514520"/>
            <a:chOff x="685800" y="0"/>
            <a:chExt cx="6095880" cy="1514520"/>
          </a:xfrm>
        </p:grpSpPr>
        <p:grpSp>
          <p:nvGrpSpPr>
            <p:cNvPr id="252" name="Group 5"/>
            <p:cNvGrpSpPr/>
            <p:nvPr/>
          </p:nvGrpSpPr>
          <p:grpSpPr>
            <a:xfrm>
              <a:off x="685800" y="380880"/>
              <a:ext cx="3505320" cy="781200"/>
              <a:chOff x="685800" y="380880"/>
              <a:chExt cx="3505320" cy="781200"/>
            </a:xfrm>
          </p:grpSpPr>
          <p:sp>
            <p:nvSpPr>
              <p:cNvPr id="253" name="Rectangle 6"/>
              <p:cNvSpPr/>
              <p:nvPr/>
            </p:nvSpPr>
            <p:spPr>
              <a:xfrm>
                <a:off x="685800" y="58068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7"/>
              <p:cNvSpPr/>
              <p:nvPr/>
            </p:nvSpPr>
            <p:spPr>
              <a:xfrm>
                <a:off x="3503880" y="380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5" name="Picture 8" descr="678"/>
            <p:cNvPicPr/>
            <p:nvPr/>
          </p:nvPicPr>
          <p:blipFill>
            <a:blip r:embed="rId1"/>
            <a:stretch/>
          </p:blipFill>
          <p:spPr>
            <a:xfrm>
              <a:off x="4343400" y="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685800" y="68580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Rectangle 10"/>
          <p:cNvSpPr/>
          <p:nvPr/>
        </p:nvSpPr>
        <p:spPr>
          <a:xfrm>
            <a:off x="685800" y="3276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609480" y="22096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设法利用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外角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把这五个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到一个三角形中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运用三角形内角和性质来求解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990720" y="3657600"/>
            <a:ext cx="50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=∠B+∠D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一个外角等于和它不相邻的两个内角的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1066680" y="480060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=∠C+∠E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一个外角等于和它不相邻的两个内角的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762120" y="5638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∵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∠1+∠2=180°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角形内角和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762120" y="44197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∵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H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16"/>
          <p:cNvGrpSpPr/>
          <p:nvPr/>
        </p:nvGrpSpPr>
        <p:grpSpPr>
          <a:xfrm>
            <a:off x="5867280" y="1523880"/>
            <a:ext cx="3047760" cy="2898000"/>
            <a:chOff x="5867280" y="1523880"/>
            <a:chExt cx="3047760" cy="2898000"/>
          </a:xfrm>
        </p:grpSpPr>
        <p:sp>
          <p:nvSpPr>
            <p:cNvPr id="264" name="AutoShape 17"/>
            <p:cNvSpPr/>
            <p:nvPr/>
          </p:nvSpPr>
          <p:spPr>
            <a:xfrm>
              <a:off x="6171840" y="1904760"/>
              <a:ext cx="2362320" cy="2244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7" y="3819"/>
                  </a:lnTo>
                  <a:lnTo>
                    <a:pt x="5000" y="0"/>
                  </a:lnTo>
                  <a:lnTo>
                    <a:pt x="6183" y="3819"/>
                  </a:lnTo>
                  <a:lnTo>
                    <a:pt x="10000" y="3819"/>
                  </a:lnTo>
                  <a:lnTo>
                    <a:pt x="6909" y="6181"/>
                  </a:lnTo>
                  <a:lnTo>
                    <a:pt x="8091" y="10000"/>
                  </a:lnTo>
                  <a:lnTo>
                    <a:pt x="5000" y="7638"/>
                  </a:lnTo>
                  <a:lnTo>
                    <a:pt x="1909" y="10000"/>
                  </a:lnTo>
                  <a:lnTo>
                    <a:pt x="3091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d4fb5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8"/>
            <p:cNvSpPr/>
            <p:nvPr/>
          </p:nvSpPr>
          <p:spPr>
            <a:xfrm>
              <a:off x="716256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586728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0"/>
            <p:cNvSpPr/>
            <p:nvPr/>
          </p:nvSpPr>
          <p:spPr>
            <a:xfrm>
              <a:off x="624816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8076960" y="39621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2"/>
            <p:cNvSpPr/>
            <p:nvPr/>
          </p:nvSpPr>
          <p:spPr>
            <a:xfrm>
              <a:off x="845784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6172200" y="2362320"/>
            <a:ext cx="1905120" cy="1796400"/>
            <a:chOff x="6172200" y="2362320"/>
            <a:chExt cx="1905120" cy="1796400"/>
          </a:xfrm>
        </p:grpSpPr>
        <p:sp>
          <p:nvSpPr>
            <p:cNvPr id="271" name="Line 24"/>
            <p:cNvSpPr/>
            <p:nvPr/>
          </p:nvSpPr>
          <p:spPr>
            <a:xfrm>
              <a:off x="6172200" y="2762280"/>
              <a:ext cx="144792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5"/>
            <p:cNvSpPr/>
            <p:nvPr/>
          </p:nvSpPr>
          <p:spPr>
            <a:xfrm>
              <a:off x="7543800" y="2438280"/>
              <a:ext cx="533520" cy="17031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6"/>
            <p:cNvSpPr/>
            <p:nvPr/>
          </p:nvSpPr>
          <p:spPr>
            <a:xfrm>
              <a:off x="6193080" y="2760480"/>
              <a:ext cx="1884240" cy="13982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27"/>
            <p:cNvSpPr/>
            <p:nvPr/>
          </p:nvSpPr>
          <p:spPr>
            <a:xfrm>
              <a:off x="754380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rc 28"/>
            <p:cNvSpPr/>
            <p:nvPr/>
          </p:nvSpPr>
          <p:spPr>
            <a:xfrm flipH="1">
              <a:off x="7391520" y="2485800"/>
              <a:ext cx="533520" cy="299880"/>
            </a:xfrm>
            <a:custGeom>
              <a:avLst/>
              <a:gdLst/>
              <a:ahLst/>
              <a:rect l="l" t="t" r="r" b="b"/>
              <a:pathLst>
                <a:path fill="none" w="21600" h="15186">
                  <a:moveTo>
                    <a:pt x="15360" y="0"/>
                  </a:moveTo>
                  <a:cubicBezTo>
                    <a:pt x="19358" y="4043"/>
                    <a:pt x="21600" y="9500"/>
                    <a:pt x="21600" y="15186"/>
                  </a:cubicBezTo>
                </a:path>
                <a:path stroke="0" w="21600" h="15186">
                  <a:moveTo>
                    <a:pt x="15360" y="0"/>
                  </a:moveTo>
                  <a:cubicBezTo>
                    <a:pt x="19358" y="4043"/>
                    <a:pt x="21600" y="9500"/>
                    <a:pt x="21600" y="15186"/>
                  </a:cubicBezTo>
                  <a:lnTo>
                    <a:pt x="0" y="15186"/>
                  </a:lnTo>
                  <a:lnTo>
                    <a:pt x="15360" y="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29"/>
            <p:cNvSpPr/>
            <p:nvPr/>
          </p:nvSpPr>
          <p:spPr>
            <a:xfrm>
              <a:off x="7391520" y="2471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30"/>
          <p:cNvGrpSpPr/>
          <p:nvPr/>
        </p:nvGrpSpPr>
        <p:grpSpPr>
          <a:xfrm>
            <a:off x="6629400" y="2306520"/>
            <a:ext cx="1905120" cy="1884240"/>
            <a:chOff x="6629400" y="2306520"/>
            <a:chExt cx="1905120" cy="1884240"/>
          </a:xfrm>
        </p:grpSpPr>
        <p:sp>
          <p:nvSpPr>
            <p:cNvPr id="278" name="Line 31"/>
            <p:cNvSpPr/>
            <p:nvPr/>
          </p:nvSpPr>
          <p:spPr>
            <a:xfrm>
              <a:off x="7069320" y="2760480"/>
              <a:ext cx="1455840" cy="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32"/>
            <p:cNvSpPr/>
            <p:nvPr/>
          </p:nvSpPr>
          <p:spPr>
            <a:xfrm flipH="1">
              <a:off x="6659640" y="2743200"/>
              <a:ext cx="1874880" cy="139860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33"/>
            <p:cNvSpPr/>
            <p:nvPr/>
          </p:nvSpPr>
          <p:spPr>
            <a:xfrm flipH="1">
              <a:off x="6629400" y="2306520"/>
              <a:ext cx="588960" cy="188424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4"/>
            <p:cNvSpPr/>
            <p:nvPr/>
          </p:nvSpPr>
          <p:spPr>
            <a:xfrm>
              <a:off x="6705720" y="2361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Arc 35"/>
            <p:cNvSpPr/>
            <p:nvPr/>
          </p:nvSpPr>
          <p:spPr>
            <a:xfrm rot="1717800">
              <a:off x="7062480" y="2557440"/>
              <a:ext cx="331920" cy="304560"/>
            </a:xfrm>
            <a:custGeom>
              <a:avLst/>
              <a:gdLst/>
              <a:ahLst/>
              <a:rect l="l" t="t" r="r" b="b"/>
              <a:pathLst>
                <a:path fill="none" w="18821" h="21600">
                  <a:moveTo>
                    <a:pt x="-1" y="141"/>
                  </a:moveTo>
                  <a:cubicBezTo>
                    <a:pt x="819" y="47"/>
                    <a:pt x="1644" y="0"/>
                    <a:pt x="2470" y="0"/>
                  </a:cubicBezTo>
                  <a:cubicBezTo>
                    <a:pt x="8749" y="0"/>
                    <a:pt x="14717" y="2732"/>
                    <a:pt x="18820" y="7486"/>
                  </a:cubicBezTo>
                </a:path>
                <a:path stroke="0" w="18821" h="21600">
                  <a:moveTo>
                    <a:pt x="-1" y="141"/>
                  </a:moveTo>
                  <a:cubicBezTo>
                    <a:pt x="819" y="47"/>
                    <a:pt x="1644" y="0"/>
                    <a:pt x="2470" y="0"/>
                  </a:cubicBezTo>
                  <a:cubicBezTo>
                    <a:pt x="8749" y="0"/>
                    <a:pt x="14717" y="2732"/>
                    <a:pt x="18820" y="7486"/>
                  </a:cubicBezTo>
                  <a:lnTo>
                    <a:pt x="2470" y="21600"/>
                  </a:lnTo>
                  <a:lnTo>
                    <a:pt x="-1" y="141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36"/>
            <p:cNvSpPr/>
            <p:nvPr/>
          </p:nvSpPr>
          <p:spPr>
            <a:xfrm>
              <a:off x="7086600" y="2452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Rectangle 37"/>
          <p:cNvSpPr/>
          <p:nvPr/>
        </p:nvSpPr>
        <p:spPr>
          <a:xfrm>
            <a:off x="1066680" y="60199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∠B+∠C+∠D+∠E =180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98360" y="2060640"/>
            <a:ext cx="846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三角形的外角的定义及性质定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用三角形外角性质推理三角形外角和等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用三角形的外角的性质求角的度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2484360" y="404640"/>
            <a:ext cx="3888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4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目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556000" y="144360"/>
            <a:ext cx="309564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学指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16000" y="1844640"/>
            <a:ext cx="892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阅读课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-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，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立解决探究中三个问题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能完成性质的证明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检测自学情况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6"/>
          <p:cNvSpPr/>
          <p:nvPr/>
        </p:nvSpPr>
        <p:spPr>
          <a:xfrm>
            <a:off x="17928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三角形的外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7"/>
          <p:cNvSpPr/>
          <p:nvPr/>
        </p:nvSpPr>
        <p:spPr>
          <a:xfrm>
            <a:off x="179280" y="11764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角形的一边与另一边的延长线所组成的角，叫做三角形的外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组合 8"/>
          <p:cNvGrpSpPr/>
          <p:nvPr/>
        </p:nvGrpSpPr>
        <p:grpSpPr>
          <a:xfrm>
            <a:off x="6837480" y="3998880"/>
            <a:ext cx="2306520" cy="2525400"/>
            <a:chOff x="6837480" y="3998880"/>
            <a:chExt cx="2306520" cy="2525400"/>
          </a:xfrm>
        </p:grpSpPr>
        <p:sp>
          <p:nvSpPr>
            <p:cNvPr id="52" name="Line 6"/>
            <p:cNvSpPr/>
            <p:nvPr/>
          </p:nvSpPr>
          <p:spPr>
            <a:xfrm>
              <a:off x="7206840" y="5734440"/>
              <a:ext cx="1193040" cy="7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7"/>
            <p:cNvSpPr/>
            <p:nvPr/>
          </p:nvSpPr>
          <p:spPr>
            <a:xfrm flipH="1">
              <a:off x="7206840" y="4678560"/>
              <a:ext cx="512640" cy="10558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7719480" y="4678560"/>
              <a:ext cx="680040" cy="10558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7738560" y="4429440"/>
              <a:ext cx="2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6945480" y="5413680"/>
              <a:ext cx="2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8242920" y="5865840"/>
              <a:ext cx="25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45"/>
            <p:cNvGrpSpPr/>
            <p:nvPr/>
          </p:nvGrpSpPr>
          <p:grpSpPr>
            <a:xfrm>
              <a:off x="7269840" y="3998880"/>
              <a:ext cx="689760" cy="1049040"/>
              <a:chOff x="7269840" y="3998880"/>
              <a:chExt cx="689760" cy="1049040"/>
            </a:xfrm>
          </p:grpSpPr>
          <p:sp>
            <p:nvSpPr>
              <p:cNvPr id="59" name="Line 2"/>
              <p:cNvSpPr/>
              <p:nvPr/>
            </p:nvSpPr>
            <p:spPr>
              <a:xfrm>
                <a:off x="7269840" y="3998880"/>
                <a:ext cx="449640" cy="67932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13"/>
              <p:cNvSpPr/>
              <p:nvPr/>
            </p:nvSpPr>
            <p:spPr>
              <a:xfrm rot="10717800">
                <a:off x="7463160" y="4434120"/>
                <a:ext cx="490320" cy="495000"/>
              </a:xfrm>
              <a:custGeom>
                <a:avLst/>
                <a:gdLst/>
                <a:ahLst/>
                <a:rect l="l" t="t" r="r" b="b"/>
                <a:pathLst>
                  <a:path fill="none" w="21600" h="24914">
                    <a:moveTo>
                      <a:pt x="17596" y="0"/>
                    </a:moveTo>
                    <a:cubicBezTo>
                      <a:pt x="20200" y="3658"/>
                      <a:pt x="21600" y="8036"/>
                      <a:pt x="21600" y="12527"/>
                    </a:cubicBezTo>
                    <a:cubicBezTo>
                      <a:pt x="21600" y="16958"/>
                      <a:pt x="20236" y="21283"/>
                      <a:pt x="17695" y="24914"/>
                    </a:cubicBezTo>
                  </a:path>
                  <a:path stroke="0" w="21600" h="24914">
                    <a:moveTo>
                      <a:pt x="17596" y="0"/>
                    </a:moveTo>
                    <a:cubicBezTo>
                      <a:pt x="20200" y="3658"/>
                      <a:pt x="21600" y="8036"/>
                      <a:pt x="21600" y="12527"/>
                    </a:cubicBezTo>
                    <a:cubicBezTo>
                      <a:pt x="21600" y="16958"/>
                      <a:pt x="20236" y="21283"/>
                      <a:pt x="17695" y="24914"/>
                    </a:cubicBezTo>
                    <a:lnTo>
                      <a:pt x="0" y="12527"/>
                    </a:lnTo>
                    <a:lnTo>
                      <a:pt x="17596" y="0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41"/>
              <p:cNvSpPr/>
              <p:nvPr/>
            </p:nvSpPr>
            <p:spPr>
              <a:xfrm>
                <a:off x="7269840" y="4527360"/>
                <a:ext cx="14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44"/>
            <p:cNvGrpSpPr/>
            <p:nvPr/>
          </p:nvGrpSpPr>
          <p:grpSpPr>
            <a:xfrm>
              <a:off x="6837480" y="5167440"/>
              <a:ext cx="2306520" cy="1356840"/>
              <a:chOff x="6837480" y="5167440"/>
              <a:chExt cx="2306520" cy="1356840"/>
            </a:xfrm>
          </p:grpSpPr>
          <p:sp>
            <p:nvSpPr>
              <p:cNvPr id="63" name="Line 3"/>
              <p:cNvSpPr/>
              <p:nvPr/>
            </p:nvSpPr>
            <p:spPr>
              <a:xfrm flipV="1">
                <a:off x="6837480" y="5735160"/>
                <a:ext cx="372240" cy="71136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4"/>
              <p:cNvSpPr/>
              <p:nvPr/>
            </p:nvSpPr>
            <p:spPr>
              <a:xfrm>
                <a:off x="8400600" y="5734080"/>
                <a:ext cx="743400" cy="2340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rc 16"/>
              <p:cNvSpPr/>
              <p:nvPr/>
            </p:nvSpPr>
            <p:spPr>
              <a:xfrm rot="11281200">
                <a:off x="8174880" y="5461200"/>
                <a:ext cx="446760" cy="492120"/>
              </a:xfrm>
              <a:custGeom>
                <a:avLst/>
                <a:gdLst/>
                <a:ahLst/>
                <a:rect l="l" t="t" r="r" b="b"/>
                <a:pathLst>
                  <a:path fill="none" w="26801" h="21600">
                    <a:moveTo>
                      <a:pt x="26800" y="20020"/>
                    </a:moveTo>
                    <a:cubicBezTo>
                      <a:pt x="24224" y="21063"/>
                      <a:pt x="21472" y="21600"/>
                      <a:pt x="18693" y="21600"/>
                    </a:cubicBezTo>
                    <a:cubicBezTo>
                      <a:pt x="10985" y="21600"/>
                      <a:pt x="3861" y="17492"/>
                      <a:pt x="-1" y="10822"/>
                    </a:cubicBezTo>
                  </a:path>
                  <a:path stroke="0" w="26801" h="21600">
                    <a:moveTo>
                      <a:pt x="26800" y="20020"/>
                    </a:moveTo>
                    <a:cubicBezTo>
                      <a:pt x="24224" y="21063"/>
                      <a:pt x="21472" y="21600"/>
                      <a:pt x="18693" y="21600"/>
                    </a:cubicBezTo>
                    <a:cubicBezTo>
                      <a:pt x="10985" y="21600"/>
                      <a:pt x="3861" y="17492"/>
                      <a:pt x="-1" y="10822"/>
                    </a:cubicBezTo>
                    <a:lnTo>
                      <a:pt x="18693" y="0"/>
                    </a:lnTo>
                    <a:lnTo>
                      <a:pt x="26800" y="20020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rc 19"/>
              <p:cNvSpPr/>
              <p:nvPr/>
            </p:nvSpPr>
            <p:spPr>
              <a:xfrm rot="11417400">
                <a:off x="7054560" y="5569200"/>
                <a:ext cx="358200" cy="536400"/>
              </a:xfrm>
              <a:custGeom>
                <a:avLst/>
                <a:gdLst/>
                <a:ahLst/>
                <a:rect l="l" t="t" r="r" b="b"/>
                <a:pathLst>
                  <a:path fill="none" w="21968" h="21600">
                    <a:moveTo>
                      <a:pt x="-1" y="17592"/>
                    </a:moveTo>
                    <a:cubicBezTo>
                      <a:pt x="1926" y="7389"/>
                      <a:pt x="10840" y="0"/>
                      <a:pt x="21225" y="0"/>
                    </a:cubicBezTo>
                    <a:cubicBezTo>
                      <a:pt x="21472" y="0"/>
                      <a:pt x="21720" y="4"/>
                      <a:pt x="21968" y="12"/>
                    </a:cubicBezTo>
                  </a:path>
                  <a:path stroke="0" w="21968" h="21600">
                    <a:moveTo>
                      <a:pt x="-1" y="17592"/>
                    </a:moveTo>
                    <a:cubicBezTo>
                      <a:pt x="1926" y="7389"/>
                      <a:pt x="10840" y="0"/>
                      <a:pt x="21225" y="0"/>
                    </a:cubicBezTo>
                    <a:cubicBezTo>
                      <a:pt x="21472" y="0"/>
                      <a:pt x="21720" y="4"/>
                      <a:pt x="21968" y="12"/>
                    </a:cubicBezTo>
                    <a:lnTo>
                      <a:pt x="21225" y="21600"/>
                    </a:lnTo>
                    <a:lnTo>
                      <a:pt x="-1" y="17592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42"/>
              <p:cNvSpPr/>
              <p:nvPr/>
            </p:nvSpPr>
            <p:spPr>
              <a:xfrm>
                <a:off x="7305840" y="600372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43"/>
              <p:cNvSpPr/>
              <p:nvPr/>
            </p:nvSpPr>
            <p:spPr>
              <a:xfrm>
                <a:off x="8495280" y="51674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文本框 27"/>
          <p:cNvSpPr/>
          <p:nvPr/>
        </p:nvSpPr>
        <p:spPr>
          <a:xfrm>
            <a:off x="0" y="304632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角形的外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左大括号 28"/>
          <p:cNvSpPr/>
          <p:nvPr/>
        </p:nvSpPr>
        <p:spPr>
          <a:xfrm>
            <a:off x="2589120" y="2496960"/>
            <a:ext cx="343080" cy="161136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1611360"/>
              <a:gd name="textAreaBottom" fmla="*/ 1602720 h 16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"/>
                  <a:pt x="10800" y="384"/>
                </a:cubicBezTo>
                <a:lnTo>
                  <a:pt x="10800" y="10416"/>
                </a:lnTo>
                <a:cubicBezTo>
                  <a:pt x="10800" y="10608"/>
                  <a:pt x="5400" y="10800"/>
                  <a:pt x="0" y="10800"/>
                </a:cubicBezTo>
                <a:cubicBezTo>
                  <a:pt x="5400" y="10800"/>
                  <a:pt x="10800" y="10992"/>
                  <a:pt x="10800" y="11184"/>
                </a:cubicBezTo>
                <a:lnTo>
                  <a:pt x="10800" y="21216"/>
                </a:lnTo>
                <a:cubicBezTo>
                  <a:pt x="10800" y="2140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29"/>
          <p:cNvSpPr/>
          <p:nvPr/>
        </p:nvSpPr>
        <p:spPr>
          <a:xfrm>
            <a:off x="2808360" y="24163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顶点是三角形的一个顶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2832120" y="3122640"/>
            <a:ext cx="52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条边是三角形的一条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2828880" y="3787920"/>
            <a:ext cx="55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条边是三角形某一条边的延长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32"/>
          <p:cNvSpPr/>
          <p:nvPr/>
        </p:nvSpPr>
        <p:spPr>
          <a:xfrm>
            <a:off x="0" y="4635360"/>
            <a:ext cx="74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形的外角与它相邻的内角互为邻补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8"/>
          <p:cNvGrpSpPr/>
          <p:nvPr/>
        </p:nvGrpSpPr>
        <p:grpSpPr>
          <a:xfrm>
            <a:off x="5724360" y="4114800"/>
            <a:ext cx="2734920" cy="2761920"/>
            <a:chOff x="5724360" y="4114800"/>
            <a:chExt cx="2734920" cy="2761920"/>
          </a:xfrm>
        </p:grpSpPr>
        <p:sp>
          <p:nvSpPr>
            <p:cNvPr id="76" name="Line 6"/>
            <p:cNvSpPr/>
            <p:nvPr/>
          </p:nvSpPr>
          <p:spPr>
            <a:xfrm>
              <a:off x="6162480" y="6055200"/>
              <a:ext cx="1414800" cy="10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7"/>
            <p:cNvSpPr/>
            <p:nvPr/>
          </p:nvSpPr>
          <p:spPr>
            <a:xfrm flipH="1">
              <a:off x="6162120" y="4874400"/>
              <a:ext cx="608040" cy="1180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6770520" y="4874400"/>
              <a:ext cx="806760" cy="1180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6792840" y="4596120"/>
              <a:ext cx="34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5852520" y="5696280"/>
              <a:ext cx="34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1"/>
            <p:cNvSpPr/>
            <p:nvPr/>
          </p:nvSpPr>
          <p:spPr>
            <a:xfrm>
              <a:off x="7391160" y="6201720"/>
              <a:ext cx="29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45"/>
            <p:cNvGrpSpPr/>
            <p:nvPr/>
          </p:nvGrpSpPr>
          <p:grpSpPr>
            <a:xfrm>
              <a:off x="6237000" y="4114800"/>
              <a:ext cx="817200" cy="1111680"/>
              <a:chOff x="6237000" y="4114800"/>
              <a:chExt cx="817200" cy="1111680"/>
            </a:xfrm>
          </p:grpSpPr>
          <p:sp>
            <p:nvSpPr>
              <p:cNvPr id="83" name="Line 2"/>
              <p:cNvSpPr/>
              <p:nvPr/>
            </p:nvSpPr>
            <p:spPr>
              <a:xfrm>
                <a:off x="6237000" y="4114800"/>
                <a:ext cx="533160" cy="75924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rc 13"/>
              <p:cNvSpPr/>
              <p:nvPr/>
            </p:nvSpPr>
            <p:spPr>
              <a:xfrm rot="10717800">
                <a:off x="6465960" y="4600800"/>
                <a:ext cx="581400" cy="553320"/>
              </a:xfrm>
              <a:custGeom>
                <a:avLst/>
                <a:gdLst/>
                <a:ahLst/>
                <a:rect l="l" t="t" r="r" b="b"/>
                <a:pathLst>
                  <a:path fill="none" w="21600" h="24914">
                    <a:moveTo>
                      <a:pt x="17596" y="0"/>
                    </a:moveTo>
                    <a:cubicBezTo>
                      <a:pt x="20200" y="3658"/>
                      <a:pt x="21600" y="8036"/>
                      <a:pt x="21600" y="12527"/>
                    </a:cubicBezTo>
                    <a:cubicBezTo>
                      <a:pt x="21600" y="16958"/>
                      <a:pt x="20236" y="21283"/>
                      <a:pt x="17695" y="24914"/>
                    </a:cubicBezTo>
                  </a:path>
                  <a:path stroke="0" w="21600" h="24914">
                    <a:moveTo>
                      <a:pt x="17596" y="0"/>
                    </a:moveTo>
                    <a:cubicBezTo>
                      <a:pt x="20200" y="3658"/>
                      <a:pt x="21600" y="8036"/>
                      <a:pt x="21600" y="12527"/>
                    </a:cubicBezTo>
                    <a:cubicBezTo>
                      <a:pt x="21600" y="16958"/>
                      <a:pt x="20236" y="21283"/>
                      <a:pt x="17695" y="24914"/>
                    </a:cubicBezTo>
                    <a:lnTo>
                      <a:pt x="0" y="12527"/>
                    </a:lnTo>
                    <a:lnTo>
                      <a:pt x="17596" y="0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41"/>
              <p:cNvSpPr/>
              <p:nvPr/>
            </p:nvSpPr>
            <p:spPr>
              <a:xfrm>
                <a:off x="6237000" y="4705920"/>
                <a:ext cx="171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44"/>
            <p:cNvGrpSpPr/>
            <p:nvPr/>
          </p:nvGrpSpPr>
          <p:grpSpPr>
            <a:xfrm>
              <a:off x="5724360" y="5421240"/>
              <a:ext cx="2734920" cy="1455480"/>
              <a:chOff x="5724360" y="5421240"/>
              <a:chExt cx="2734920" cy="1455480"/>
            </a:xfrm>
          </p:grpSpPr>
          <p:sp>
            <p:nvSpPr>
              <p:cNvPr id="87" name="Line 3"/>
              <p:cNvSpPr/>
              <p:nvPr/>
            </p:nvSpPr>
            <p:spPr>
              <a:xfrm flipV="1">
                <a:off x="5724360" y="6055560"/>
                <a:ext cx="441720" cy="79524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4"/>
              <p:cNvSpPr/>
              <p:nvPr/>
            </p:nvSpPr>
            <p:spPr>
              <a:xfrm>
                <a:off x="7578000" y="6054840"/>
                <a:ext cx="881280" cy="2628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Arc 16"/>
              <p:cNvSpPr/>
              <p:nvPr/>
            </p:nvSpPr>
            <p:spPr>
              <a:xfrm rot="11281200">
                <a:off x="7310160" y="5749560"/>
                <a:ext cx="529560" cy="550080"/>
              </a:xfrm>
              <a:custGeom>
                <a:avLst/>
                <a:gdLst/>
                <a:ahLst/>
                <a:rect l="l" t="t" r="r" b="b"/>
                <a:pathLst>
                  <a:path fill="none" w="26801" h="21600">
                    <a:moveTo>
                      <a:pt x="26800" y="20020"/>
                    </a:moveTo>
                    <a:cubicBezTo>
                      <a:pt x="24224" y="21063"/>
                      <a:pt x="21472" y="21600"/>
                      <a:pt x="18693" y="21600"/>
                    </a:cubicBezTo>
                    <a:cubicBezTo>
                      <a:pt x="10985" y="21600"/>
                      <a:pt x="3861" y="17492"/>
                      <a:pt x="-1" y="10822"/>
                    </a:cubicBezTo>
                  </a:path>
                  <a:path stroke="0" w="26801" h="21600">
                    <a:moveTo>
                      <a:pt x="26800" y="20020"/>
                    </a:moveTo>
                    <a:cubicBezTo>
                      <a:pt x="24224" y="21063"/>
                      <a:pt x="21472" y="21600"/>
                      <a:pt x="18693" y="21600"/>
                    </a:cubicBezTo>
                    <a:cubicBezTo>
                      <a:pt x="10985" y="21600"/>
                      <a:pt x="3861" y="17492"/>
                      <a:pt x="-1" y="10822"/>
                    </a:cubicBezTo>
                    <a:lnTo>
                      <a:pt x="18693" y="0"/>
                    </a:lnTo>
                    <a:lnTo>
                      <a:pt x="26800" y="20020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Arc 19"/>
              <p:cNvSpPr/>
              <p:nvPr/>
            </p:nvSpPr>
            <p:spPr>
              <a:xfrm rot="11417400">
                <a:off x="5982480" y="5869440"/>
                <a:ext cx="424800" cy="599400"/>
              </a:xfrm>
              <a:custGeom>
                <a:avLst/>
                <a:gdLst/>
                <a:ahLst/>
                <a:rect l="l" t="t" r="r" b="b"/>
                <a:pathLst>
                  <a:path fill="none" w="21968" h="21600">
                    <a:moveTo>
                      <a:pt x="-1" y="17592"/>
                    </a:moveTo>
                    <a:cubicBezTo>
                      <a:pt x="1926" y="7389"/>
                      <a:pt x="10840" y="0"/>
                      <a:pt x="21225" y="0"/>
                    </a:cubicBezTo>
                    <a:cubicBezTo>
                      <a:pt x="21472" y="0"/>
                      <a:pt x="21720" y="4"/>
                      <a:pt x="21968" y="12"/>
                    </a:cubicBezTo>
                  </a:path>
                  <a:path stroke="0" w="21968" h="21600">
                    <a:moveTo>
                      <a:pt x="-1" y="17592"/>
                    </a:moveTo>
                    <a:cubicBezTo>
                      <a:pt x="1926" y="7389"/>
                      <a:pt x="10840" y="0"/>
                      <a:pt x="21225" y="0"/>
                    </a:cubicBezTo>
                    <a:cubicBezTo>
                      <a:pt x="21472" y="0"/>
                      <a:pt x="21720" y="4"/>
                      <a:pt x="21968" y="12"/>
                    </a:cubicBezTo>
                    <a:lnTo>
                      <a:pt x="21225" y="21600"/>
                    </a:lnTo>
                    <a:lnTo>
                      <a:pt x="-1" y="17592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42"/>
              <p:cNvSpPr/>
              <p:nvPr/>
            </p:nvSpPr>
            <p:spPr>
              <a:xfrm>
                <a:off x="6279840" y="6356160"/>
                <a:ext cx="25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43"/>
              <p:cNvSpPr/>
              <p:nvPr/>
            </p:nvSpPr>
            <p:spPr>
              <a:xfrm>
                <a:off x="7690320" y="5421240"/>
                <a:ext cx="25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文本框 19"/>
          <p:cNvSpPr/>
          <p:nvPr/>
        </p:nvSpPr>
        <p:spPr>
          <a:xfrm>
            <a:off x="74520" y="17654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个三角形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个外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20"/>
          <p:cNvSpPr/>
          <p:nvPr/>
        </p:nvSpPr>
        <p:spPr>
          <a:xfrm>
            <a:off x="74520" y="23544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三角形的一个外角等于与它相邻的内角时，该三角形是直角三角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三角形的每个外角都大于与它相邻的内角时，该三角形是锐角三角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三角形的一个外角小于与它相邻的内角时，该三角形是钝角三角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21"/>
          <p:cNvSpPr/>
          <p:nvPr/>
        </p:nvSpPr>
        <p:spPr>
          <a:xfrm>
            <a:off x="74520" y="674640"/>
            <a:ext cx="90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形的每个顶点处有且只有两个外角，这两个角互为对顶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"/>
          <p:cNvSpPr/>
          <p:nvPr/>
        </p:nvSpPr>
        <p:spPr>
          <a:xfrm>
            <a:off x="-106200" y="461880"/>
            <a:ext cx="62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三角形内角和定理的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2"/>
          <p:cNvSpPr/>
          <p:nvPr/>
        </p:nvSpPr>
        <p:spPr>
          <a:xfrm>
            <a:off x="-41400" y="1249200"/>
            <a:ext cx="89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推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三角形的外角等于与它不相邻的两个内角的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组合 6"/>
          <p:cNvGrpSpPr/>
          <p:nvPr/>
        </p:nvGrpSpPr>
        <p:grpSpPr>
          <a:xfrm>
            <a:off x="1042920" y="2565360"/>
            <a:ext cx="7056000" cy="3926520"/>
            <a:chOff x="1042920" y="2565360"/>
            <a:chExt cx="7056000" cy="3926520"/>
          </a:xfrm>
        </p:grpSpPr>
        <p:grpSp>
          <p:nvGrpSpPr>
            <p:cNvPr id="99" name="Group 2"/>
            <p:cNvGrpSpPr/>
            <p:nvPr/>
          </p:nvGrpSpPr>
          <p:grpSpPr>
            <a:xfrm>
              <a:off x="4455360" y="3946680"/>
              <a:ext cx="3643560" cy="820800"/>
              <a:chOff x="4455360" y="3946680"/>
              <a:chExt cx="3643560" cy="820800"/>
            </a:xfrm>
          </p:grpSpPr>
          <p:sp>
            <p:nvSpPr>
              <p:cNvPr id="100" name="Line 3"/>
              <p:cNvSpPr/>
              <p:nvPr/>
            </p:nvSpPr>
            <p:spPr>
              <a:xfrm flipH="1">
                <a:off x="4455360" y="4239720"/>
                <a:ext cx="1158840" cy="52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4"/>
              <p:cNvSpPr/>
              <p:nvPr/>
            </p:nvSpPr>
            <p:spPr>
              <a:xfrm>
                <a:off x="5614560" y="3946680"/>
                <a:ext cx="2484360" cy="52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三角形的外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5"/>
            <p:cNvGrpSpPr/>
            <p:nvPr/>
          </p:nvGrpSpPr>
          <p:grpSpPr>
            <a:xfrm>
              <a:off x="3618720" y="4504680"/>
              <a:ext cx="913320" cy="615600"/>
              <a:chOff x="3618720" y="4504680"/>
              <a:chExt cx="913320" cy="615600"/>
            </a:xfrm>
          </p:grpSpPr>
          <p:sp>
            <p:nvSpPr>
              <p:cNvPr id="103" name="Freeform 6"/>
              <p:cNvSpPr/>
              <p:nvPr/>
            </p:nvSpPr>
            <p:spPr>
              <a:xfrm>
                <a:off x="3854520" y="4506840"/>
                <a:ext cx="674640" cy="402840"/>
              </a:xfrm>
              <a:custGeom>
                <a:avLst/>
                <a:gdLst/>
                <a:ahLst/>
                <a:rect l="l" t="t" r="r" b="b"/>
                <a:pathLst>
                  <a:path w="503" h="330">
                    <a:moveTo>
                      <a:pt x="225" y="0"/>
                    </a:moveTo>
                    <a:lnTo>
                      <a:pt x="391" y="136"/>
                    </a:lnTo>
                    <a:lnTo>
                      <a:pt x="503" y="330"/>
                    </a:lnTo>
                    <a:lnTo>
                      <a:pt x="0" y="330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rc 7"/>
              <p:cNvSpPr/>
              <p:nvPr/>
            </p:nvSpPr>
            <p:spPr>
              <a:xfrm>
                <a:off x="3618720" y="4504680"/>
                <a:ext cx="913320" cy="615600"/>
              </a:xfrm>
              <a:custGeom>
                <a:avLst/>
                <a:gdLst/>
                <a:ahLst/>
                <a:rect l="l" t="t" r="r" b="b"/>
                <a:pathLst>
                  <a:path fill="none" w="20725" h="17787">
                    <a:moveTo>
                      <a:pt x="12255" y="0"/>
                    </a:moveTo>
                    <a:cubicBezTo>
                      <a:pt x="16337" y="2813"/>
                      <a:pt x="19328" y="6944"/>
                      <a:pt x="20724" y="11701"/>
                    </a:cubicBezTo>
                  </a:path>
                  <a:path stroke="0" w="20725" h="17787">
                    <a:moveTo>
                      <a:pt x="12255" y="0"/>
                    </a:moveTo>
                    <a:cubicBezTo>
                      <a:pt x="16337" y="2813"/>
                      <a:pt x="19328" y="6944"/>
                      <a:pt x="20724" y="11701"/>
                    </a:cubicBezTo>
                    <a:lnTo>
                      <a:pt x="0" y="17787"/>
                    </a:lnTo>
                    <a:lnTo>
                      <a:pt x="12255" y="0"/>
                    </a:lnTo>
                    <a:close/>
                  </a:path>
                </a:pathLst>
              </a:custGeom>
              <a:noFill/>
              <a:ln w="36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8"/>
            <p:cNvGrpSpPr/>
            <p:nvPr/>
          </p:nvGrpSpPr>
          <p:grpSpPr>
            <a:xfrm>
              <a:off x="3297960" y="4657680"/>
              <a:ext cx="926640" cy="1123560"/>
              <a:chOff x="3297960" y="4657680"/>
              <a:chExt cx="926640" cy="1123560"/>
            </a:xfrm>
          </p:grpSpPr>
          <p:sp>
            <p:nvSpPr>
              <p:cNvPr id="106" name="Freeform 9"/>
              <p:cNvSpPr/>
              <p:nvPr/>
            </p:nvSpPr>
            <p:spPr>
              <a:xfrm>
                <a:off x="3297960" y="4657680"/>
                <a:ext cx="766080" cy="252720"/>
              </a:xfrm>
              <a:custGeom>
                <a:avLst/>
                <a:gdLst/>
                <a:ahLst/>
                <a:rect l="l" t="t" r="r" b="b"/>
                <a:pathLst>
                  <a:path w="571" h="207">
                    <a:moveTo>
                      <a:pt x="571" y="0"/>
                    </a:moveTo>
                    <a:lnTo>
                      <a:pt x="271" y="65"/>
                    </a:lnTo>
                    <a:lnTo>
                      <a:pt x="0" y="207"/>
                    </a:lnTo>
                    <a:lnTo>
                      <a:pt x="428" y="207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rc 10"/>
              <p:cNvSpPr/>
              <p:nvPr/>
            </p:nvSpPr>
            <p:spPr>
              <a:xfrm>
                <a:off x="3300480" y="4657680"/>
                <a:ext cx="924120" cy="1123560"/>
              </a:xfrm>
              <a:custGeom>
                <a:avLst/>
                <a:gdLst/>
                <a:ahLst/>
                <a:rect l="l" t="t" r="r" b="b"/>
                <a:pathLst>
                  <a:path fill="none" w="13854" h="21465">
                    <a:moveTo>
                      <a:pt x="0" y="4893"/>
                    </a:moveTo>
                    <a:cubicBezTo>
                      <a:pt x="3250" y="2175"/>
                      <a:pt x="7228" y="474"/>
                      <a:pt x="11439" y="0"/>
                    </a:cubicBezTo>
                  </a:path>
                  <a:path stroke="0" w="13854" h="21465">
                    <a:moveTo>
                      <a:pt x="0" y="4893"/>
                    </a:moveTo>
                    <a:cubicBezTo>
                      <a:pt x="3250" y="2175"/>
                      <a:pt x="7228" y="474"/>
                      <a:pt x="11439" y="0"/>
                    </a:cubicBezTo>
                    <a:lnTo>
                      <a:pt x="13854" y="21465"/>
                    </a:lnTo>
                    <a:lnTo>
                      <a:pt x="0" y="4893"/>
                    </a:lnTo>
                    <a:close/>
                  </a:path>
                </a:pathLst>
              </a:custGeom>
              <a:noFill/>
              <a:ln w="36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11"/>
            <p:cNvGrpSpPr/>
            <p:nvPr/>
          </p:nvGrpSpPr>
          <p:grpSpPr>
            <a:xfrm>
              <a:off x="1858320" y="3408120"/>
              <a:ext cx="3132000" cy="1503000"/>
              <a:chOff x="1858320" y="3408120"/>
              <a:chExt cx="3132000" cy="1503000"/>
            </a:xfrm>
          </p:grpSpPr>
          <p:sp>
            <p:nvSpPr>
              <p:cNvPr id="109" name="Freeform 12"/>
              <p:cNvSpPr/>
              <p:nvPr/>
            </p:nvSpPr>
            <p:spPr>
              <a:xfrm>
                <a:off x="1858320" y="4673160"/>
                <a:ext cx="684000" cy="236520"/>
              </a:xfrm>
              <a:custGeom>
                <a:avLst/>
                <a:gdLst/>
                <a:ahLst/>
                <a:rect l="l" t="t" r="r" b="b"/>
                <a:pathLst>
                  <a:path w="510" h="194">
                    <a:moveTo>
                      <a:pt x="0" y="194"/>
                    </a:moveTo>
                    <a:lnTo>
                      <a:pt x="375" y="0"/>
                    </a:lnTo>
                    <a:lnTo>
                      <a:pt x="510" y="78"/>
                    </a:lnTo>
                    <a:lnTo>
                      <a:pt x="503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4356000" y="3408120"/>
                <a:ext cx="634320" cy="497880"/>
              </a:xfrm>
              <a:custGeom>
                <a:avLst/>
                <a:gdLst/>
                <a:ahLst/>
                <a:rect l="l" t="t" r="r" b="b"/>
                <a:pathLst>
                  <a:path w="473" h="408">
                    <a:moveTo>
                      <a:pt x="195" y="408"/>
                    </a:moveTo>
                    <a:lnTo>
                      <a:pt x="30" y="362"/>
                    </a:lnTo>
                    <a:lnTo>
                      <a:pt x="0" y="252"/>
                    </a:lnTo>
                    <a:lnTo>
                      <a:pt x="473" y="0"/>
                    </a:lnTo>
                    <a:lnTo>
                      <a:pt x="195" y="4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rc 14"/>
              <p:cNvSpPr/>
              <p:nvPr/>
            </p:nvSpPr>
            <p:spPr>
              <a:xfrm>
                <a:off x="4345200" y="3714480"/>
                <a:ext cx="272160" cy="199080"/>
              </a:xfrm>
              <a:custGeom>
                <a:avLst/>
                <a:gdLst/>
                <a:ahLst/>
                <a:rect l="l" t="t" r="r" b="b"/>
                <a:pathLst>
                  <a:path fill="none" w="27144" h="25846">
                    <a:moveTo>
                      <a:pt x="27144" y="25122"/>
                    </a:moveTo>
                    <a:cubicBezTo>
                      <a:pt x="25335" y="25602"/>
                      <a:pt x="23471" y="25846"/>
                      <a:pt x="21600" y="25846"/>
                    </a:cubicBezTo>
                    <a:cubicBezTo>
                      <a:pt x="9670" y="25846"/>
                      <a:pt x="0" y="16175"/>
                      <a:pt x="0" y="4246"/>
                    </a:cubicBezTo>
                    <a:cubicBezTo>
                      <a:pt x="0" y="2820"/>
                      <a:pt x="141" y="1398"/>
                      <a:pt x="421" y="0"/>
                    </a:cubicBezTo>
                  </a:path>
                  <a:path stroke="0" w="27144" h="25846">
                    <a:moveTo>
                      <a:pt x="27144" y="25122"/>
                    </a:moveTo>
                    <a:cubicBezTo>
                      <a:pt x="25335" y="25602"/>
                      <a:pt x="23471" y="25846"/>
                      <a:pt x="21600" y="25846"/>
                    </a:cubicBezTo>
                    <a:cubicBezTo>
                      <a:pt x="9670" y="25846"/>
                      <a:pt x="0" y="16175"/>
                      <a:pt x="0" y="4246"/>
                    </a:cubicBezTo>
                    <a:cubicBezTo>
                      <a:pt x="0" y="2820"/>
                      <a:pt x="141" y="1398"/>
                      <a:pt x="421" y="0"/>
                    </a:cubicBezTo>
                    <a:lnTo>
                      <a:pt x="21600" y="4246"/>
                    </a:lnTo>
                    <a:lnTo>
                      <a:pt x="27144" y="25122"/>
                    </a:lnTo>
                    <a:close/>
                  </a:path>
                </a:pathLst>
              </a:custGeom>
              <a:noFill/>
              <a:ln w="36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rc 15"/>
              <p:cNvSpPr/>
              <p:nvPr/>
            </p:nvSpPr>
            <p:spPr>
              <a:xfrm>
                <a:off x="2355840" y="4674240"/>
                <a:ext cx="206640" cy="236880"/>
              </a:xfrm>
              <a:custGeom>
                <a:avLst/>
                <a:gdLst/>
                <a:ahLst/>
                <a:rect l="l" t="t" r="r" b="b"/>
                <a:pathLst>
                  <a:path fill="none" w="21600" h="32382">
                    <a:moveTo>
                      <a:pt x="558" y="0"/>
                    </a:moveTo>
                    <a:cubicBezTo>
                      <a:pt x="12266" y="303"/>
                      <a:pt x="21600" y="9881"/>
                      <a:pt x="21600" y="21593"/>
                    </a:cubicBezTo>
                    <a:cubicBezTo>
                      <a:pt x="21600" y="25380"/>
                      <a:pt x="20604" y="29101"/>
                      <a:pt x="18712" y="32382"/>
                    </a:cubicBezTo>
                  </a:path>
                  <a:path stroke="0" w="21600" h="32382">
                    <a:moveTo>
                      <a:pt x="558" y="0"/>
                    </a:moveTo>
                    <a:cubicBezTo>
                      <a:pt x="12266" y="303"/>
                      <a:pt x="21600" y="9881"/>
                      <a:pt x="21600" y="21593"/>
                    </a:cubicBezTo>
                    <a:cubicBezTo>
                      <a:pt x="21600" y="25380"/>
                      <a:pt x="20604" y="29101"/>
                      <a:pt x="18712" y="32382"/>
                    </a:cubicBezTo>
                    <a:lnTo>
                      <a:pt x="0" y="21593"/>
                    </a:lnTo>
                    <a:lnTo>
                      <a:pt x="558" y="0"/>
                    </a:lnTo>
                    <a:close/>
                  </a:path>
                </a:pathLst>
              </a:custGeom>
              <a:noFill/>
              <a:ln w="36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16"/>
            <p:cNvGrpSpPr/>
            <p:nvPr/>
          </p:nvGrpSpPr>
          <p:grpSpPr>
            <a:xfrm>
              <a:off x="1526760" y="3044160"/>
              <a:ext cx="4041720" cy="2348640"/>
              <a:chOff x="1526760" y="3044160"/>
              <a:chExt cx="4041720" cy="2348640"/>
            </a:xfrm>
          </p:grpSpPr>
          <p:sp>
            <p:nvSpPr>
              <p:cNvPr id="114" name="Line 17"/>
              <p:cNvSpPr/>
              <p:nvPr/>
            </p:nvSpPr>
            <p:spPr>
              <a:xfrm>
                <a:off x="1857960" y="4910040"/>
                <a:ext cx="2013480" cy="108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18"/>
              <p:cNvSpPr/>
              <p:nvPr/>
            </p:nvSpPr>
            <p:spPr>
              <a:xfrm flipH="1">
                <a:off x="1857600" y="3407760"/>
                <a:ext cx="3132360" cy="150192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19"/>
              <p:cNvSpPr/>
              <p:nvPr/>
            </p:nvSpPr>
            <p:spPr>
              <a:xfrm flipH="1">
                <a:off x="3871800" y="3407760"/>
                <a:ext cx="1118880" cy="150192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3871800" y="4910040"/>
                <a:ext cx="1521360" cy="108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21"/>
              <p:cNvSpPr/>
              <p:nvPr/>
            </p:nvSpPr>
            <p:spPr>
              <a:xfrm>
                <a:off x="1526760" y="4673160"/>
                <a:ext cx="2462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22"/>
              <p:cNvSpPr/>
              <p:nvPr/>
            </p:nvSpPr>
            <p:spPr>
              <a:xfrm>
                <a:off x="3669840" y="4950720"/>
                <a:ext cx="2674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23"/>
              <p:cNvSpPr/>
              <p:nvPr/>
            </p:nvSpPr>
            <p:spPr>
              <a:xfrm>
                <a:off x="4648320" y="3044160"/>
                <a:ext cx="2462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24"/>
              <p:cNvSpPr/>
              <p:nvPr/>
            </p:nvSpPr>
            <p:spPr>
              <a:xfrm>
                <a:off x="5301000" y="4950720"/>
                <a:ext cx="2674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25"/>
            <p:cNvGrpSpPr/>
            <p:nvPr/>
          </p:nvGrpSpPr>
          <p:grpSpPr>
            <a:xfrm>
              <a:off x="3796920" y="4916520"/>
              <a:ext cx="2256480" cy="1575360"/>
              <a:chOff x="3796920" y="4916520"/>
              <a:chExt cx="2256480" cy="1575360"/>
            </a:xfrm>
          </p:grpSpPr>
          <p:sp>
            <p:nvSpPr>
              <p:cNvPr id="123" name="Text Box 26"/>
              <p:cNvSpPr/>
              <p:nvPr/>
            </p:nvSpPr>
            <p:spPr>
              <a:xfrm>
                <a:off x="3796920" y="5971320"/>
                <a:ext cx="2256480" cy="5205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相邻的内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27"/>
              <p:cNvSpPr/>
              <p:nvPr/>
            </p:nvSpPr>
            <p:spPr>
              <a:xfrm>
                <a:off x="3831840" y="4916520"/>
                <a:ext cx="392760" cy="1051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28"/>
            <p:cNvGrpSpPr/>
            <p:nvPr/>
          </p:nvGrpSpPr>
          <p:grpSpPr>
            <a:xfrm>
              <a:off x="1042920" y="2565360"/>
              <a:ext cx="3541320" cy="2201760"/>
              <a:chOff x="1042920" y="2565360"/>
              <a:chExt cx="3541320" cy="2201760"/>
            </a:xfrm>
          </p:grpSpPr>
          <p:sp>
            <p:nvSpPr>
              <p:cNvPr id="126" name="Text Box 29"/>
              <p:cNvSpPr/>
              <p:nvPr/>
            </p:nvSpPr>
            <p:spPr>
              <a:xfrm>
                <a:off x="1042920" y="2565360"/>
                <a:ext cx="2575800" cy="5205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不相邻的内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0"/>
              <p:cNvSpPr/>
              <p:nvPr/>
            </p:nvSpPr>
            <p:spPr>
              <a:xfrm>
                <a:off x="2073240" y="3125880"/>
                <a:ext cx="257400" cy="164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31"/>
              <p:cNvSpPr/>
              <p:nvPr/>
            </p:nvSpPr>
            <p:spPr>
              <a:xfrm>
                <a:off x="2073240" y="3125880"/>
                <a:ext cx="2511000" cy="58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"/>
          <p:cNvGrpSpPr/>
          <p:nvPr/>
        </p:nvGrpSpPr>
        <p:grpSpPr>
          <a:xfrm>
            <a:off x="4121280" y="3548160"/>
            <a:ext cx="4041720" cy="2736720"/>
            <a:chOff x="4121280" y="3548160"/>
            <a:chExt cx="4041720" cy="2736720"/>
          </a:xfrm>
        </p:grpSpPr>
        <p:grpSp>
          <p:nvGrpSpPr>
            <p:cNvPr id="130" name="Group 5"/>
            <p:cNvGrpSpPr/>
            <p:nvPr/>
          </p:nvGrpSpPr>
          <p:grpSpPr>
            <a:xfrm>
              <a:off x="6212880" y="5008680"/>
              <a:ext cx="913320" cy="615240"/>
              <a:chOff x="6212880" y="5008680"/>
              <a:chExt cx="913320" cy="615240"/>
            </a:xfrm>
          </p:grpSpPr>
          <p:sp>
            <p:nvSpPr>
              <p:cNvPr id="131" name="Freeform 6"/>
              <p:cNvSpPr/>
              <p:nvPr/>
            </p:nvSpPr>
            <p:spPr>
              <a:xfrm>
                <a:off x="6448680" y="5010840"/>
                <a:ext cx="674640" cy="402480"/>
              </a:xfrm>
              <a:custGeom>
                <a:avLst/>
                <a:gdLst/>
                <a:ahLst/>
                <a:rect l="l" t="t" r="r" b="b"/>
                <a:pathLst>
                  <a:path w="503" h="330">
                    <a:moveTo>
                      <a:pt x="225" y="0"/>
                    </a:moveTo>
                    <a:lnTo>
                      <a:pt x="391" y="136"/>
                    </a:lnTo>
                    <a:lnTo>
                      <a:pt x="503" y="330"/>
                    </a:lnTo>
                    <a:lnTo>
                      <a:pt x="0" y="330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rc 7"/>
              <p:cNvSpPr/>
              <p:nvPr/>
            </p:nvSpPr>
            <p:spPr>
              <a:xfrm>
                <a:off x="6212880" y="5008680"/>
                <a:ext cx="913320" cy="615240"/>
              </a:xfrm>
              <a:custGeom>
                <a:avLst/>
                <a:gdLst/>
                <a:ahLst/>
                <a:rect l="l" t="t" r="r" b="b"/>
                <a:pathLst>
                  <a:path fill="none" w="20725" h="17787">
                    <a:moveTo>
                      <a:pt x="12255" y="0"/>
                    </a:moveTo>
                    <a:cubicBezTo>
                      <a:pt x="16337" y="2813"/>
                      <a:pt x="19328" y="6944"/>
                      <a:pt x="20724" y="11701"/>
                    </a:cubicBezTo>
                  </a:path>
                  <a:path stroke="0" w="20725" h="17787">
                    <a:moveTo>
                      <a:pt x="12255" y="0"/>
                    </a:moveTo>
                    <a:cubicBezTo>
                      <a:pt x="16337" y="2813"/>
                      <a:pt x="19328" y="6944"/>
                      <a:pt x="20724" y="11701"/>
                    </a:cubicBezTo>
                    <a:lnTo>
                      <a:pt x="0" y="17787"/>
                    </a:lnTo>
                    <a:lnTo>
                      <a:pt x="12255" y="0"/>
                    </a:lnTo>
                    <a:close/>
                  </a:path>
                </a:pathLst>
              </a:custGeom>
              <a:noFill/>
              <a:ln w="36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8"/>
            <p:cNvGrpSpPr/>
            <p:nvPr/>
          </p:nvGrpSpPr>
          <p:grpSpPr>
            <a:xfrm>
              <a:off x="5892480" y="5161320"/>
              <a:ext cx="926640" cy="1123560"/>
              <a:chOff x="5892480" y="5161320"/>
              <a:chExt cx="926640" cy="1123560"/>
            </a:xfrm>
          </p:grpSpPr>
          <p:sp>
            <p:nvSpPr>
              <p:cNvPr id="134" name="Freeform 9"/>
              <p:cNvSpPr/>
              <p:nvPr/>
            </p:nvSpPr>
            <p:spPr>
              <a:xfrm>
                <a:off x="5892480" y="5161320"/>
                <a:ext cx="766080" cy="252720"/>
              </a:xfrm>
              <a:custGeom>
                <a:avLst/>
                <a:gdLst/>
                <a:ahLst/>
                <a:rect l="l" t="t" r="r" b="b"/>
                <a:pathLst>
                  <a:path w="571" h="207">
                    <a:moveTo>
                      <a:pt x="571" y="0"/>
                    </a:moveTo>
                    <a:lnTo>
                      <a:pt x="271" y="65"/>
                    </a:lnTo>
                    <a:lnTo>
                      <a:pt x="0" y="207"/>
                    </a:lnTo>
                    <a:lnTo>
                      <a:pt x="428" y="207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rc 10"/>
              <p:cNvSpPr/>
              <p:nvPr/>
            </p:nvSpPr>
            <p:spPr>
              <a:xfrm>
                <a:off x="5895000" y="5161320"/>
                <a:ext cx="924120" cy="1123560"/>
              </a:xfrm>
              <a:custGeom>
                <a:avLst/>
                <a:gdLst/>
                <a:ahLst/>
                <a:rect l="l" t="t" r="r" b="b"/>
                <a:pathLst>
                  <a:path fill="none" w="13854" h="21465">
                    <a:moveTo>
                      <a:pt x="0" y="4893"/>
                    </a:moveTo>
                    <a:cubicBezTo>
                      <a:pt x="3250" y="2175"/>
                      <a:pt x="7228" y="474"/>
                      <a:pt x="11439" y="0"/>
                    </a:cubicBezTo>
                  </a:path>
                  <a:path stroke="0" w="13854" h="21465">
                    <a:moveTo>
                      <a:pt x="0" y="4893"/>
                    </a:moveTo>
                    <a:cubicBezTo>
                      <a:pt x="3250" y="2175"/>
                      <a:pt x="7228" y="474"/>
                      <a:pt x="11439" y="0"/>
                    </a:cubicBezTo>
                    <a:lnTo>
                      <a:pt x="13854" y="21465"/>
                    </a:lnTo>
                    <a:lnTo>
                      <a:pt x="0" y="4893"/>
                    </a:lnTo>
                    <a:close/>
                  </a:path>
                </a:pathLst>
              </a:custGeom>
              <a:noFill/>
              <a:ln w="36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11"/>
            <p:cNvGrpSpPr/>
            <p:nvPr/>
          </p:nvGrpSpPr>
          <p:grpSpPr>
            <a:xfrm>
              <a:off x="4452840" y="3912120"/>
              <a:ext cx="3132360" cy="1503000"/>
              <a:chOff x="4452840" y="3912120"/>
              <a:chExt cx="3132360" cy="1503000"/>
            </a:xfrm>
          </p:grpSpPr>
          <p:sp>
            <p:nvSpPr>
              <p:cNvPr id="137" name="Freeform 12"/>
              <p:cNvSpPr/>
              <p:nvPr/>
            </p:nvSpPr>
            <p:spPr>
              <a:xfrm>
                <a:off x="4452840" y="5177160"/>
                <a:ext cx="684000" cy="236520"/>
              </a:xfrm>
              <a:custGeom>
                <a:avLst/>
                <a:gdLst/>
                <a:ahLst/>
                <a:rect l="l" t="t" r="r" b="b"/>
                <a:pathLst>
                  <a:path w="510" h="194">
                    <a:moveTo>
                      <a:pt x="0" y="194"/>
                    </a:moveTo>
                    <a:lnTo>
                      <a:pt x="375" y="0"/>
                    </a:lnTo>
                    <a:lnTo>
                      <a:pt x="510" y="78"/>
                    </a:lnTo>
                    <a:lnTo>
                      <a:pt x="503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>
                <a:off x="6950880" y="3912120"/>
                <a:ext cx="634320" cy="497880"/>
              </a:xfrm>
              <a:custGeom>
                <a:avLst/>
                <a:gdLst/>
                <a:ahLst/>
                <a:rect l="l" t="t" r="r" b="b"/>
                <a:pathLst>
                  <a:path w="473" h="408">
                    <a:moveTo>
                      <a:pt x="195" y="408"/>
                    </a:moveTo>
                    <a:lnTo>
                      <a:pt x="30" y="362"/>
                    </a:lnTo>
                    <a:lnTo>
                      <a:pt x="0" y="252"/>
                    </a:lnTo>
                    <a:lnTo>
                      <a:pt x="473" y="0"/>
                    </a:lnTo>
                    <a:lnTo>
                      <a:pt x="195" y="4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rc 14"/>
              <p:cNvSpPr/>
              <p:nvPr/>
            </p:nvSpPr>
            <p:spPr>
              <a:xfrm>
                <a:off x="6940080" y="4218480"/>
                <a:ext cx="272160" cy="199080"/>
              </a:xfrm>
              <a:custGeom>
                <a:avLst/>
                <a:gdLst/>
                <a:ahLst/>
                <a:rect l="l" t="t" r="r" b="b"/>
                <a:pathLst>
                  <a:path fill="none" w="27144" h="25846">
                    <a:moveTo>
                      <a:pt x="27144" y="25122"/>
                    </a:moveTo>
                    <a:cubicBezTo>
                      <a:pt x="25335" y="25602"/>
                      <a:pt x="23471" y="25846"/>
                      <a:pt x="21600" y="25846"/>
                    </a:cubicBezTo>
                    <a:cubicBezTo>
                      <a:pt x="9670" y="25846"/>
                      <a:pt x="0" y="16175"/>
                      <a:pt x="0" y="4246"/>
                    </a:cubicBezTo>
                    <a:cubicBezTo>
                      <a:pt x="0" y="2820"/>
                      <a:pt x="141" y="1398"/>
                      <a:pt x="421" y="0"/>
                    </a:cubicBezTo>
                  </a:path>
                  <a:path stroke="0" w="27144" h="25846">
                    <a:moveTo>
                      <a:pt x="27144" y="25122"/>
                    </a:moveTo>
                    <a:cubicBezTo>
                      <a:pt x="25335" y="25602"/>
                      <a:pt x="23471" y="25846"/>
                      <a:pt x="21600" y="25846"/>
                    </a:cubicBezTo>
                    <a:cubicBezTo>
                      <a:pt x="9670" y="25846"/>
                      <a:pt x="0" y="16175"/>
                      <a:pt x="0" y="4246"/>
                    </a:cubicBezTo>
                    <a:cubicBezTo>
                      <a:pt x="0" y="2820"/>
                      <a:pt x="141" y="1398"/>
                      <a:pt x="421" y="0"/>
                    </a:cubicBezTo>
                    <a:lnTo>
                      <a:pt x="21600" y="4246"/>
                    </a:lnTo>
                    <a:lnTo>
                      <a:pt x="27144" y="25122"/>
                    </a:lnTo>
                    <a:close/>
                  </a:path>
                </a:pathLst>
              </a:custGeom>
              <a:noFill/>
              <a:ln w="36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rc 15"/>
              <p:cNvSpPr/>
              <p:nvPr/>
            </p:nvSpPr>
            <p:spPr>
              <a:xfrm>
                <a:off x="4950360" y="5178240"/>
                <a:ext cx="206640" cy="236880"/>
              </a:xfrm>
              <a:custGeom>
                <a:avLst/>
                <a:gdLst/>
                <a:ahLst/>
                <a:rect l="l" t="t" r="r" b="b"/>
                <a:pathLst>
                  <a:path fill="none" w="21600" h="32382">
                    <a:moveTo>
                      <a:pt x="558" y="0"/>
                    </a:moveTo>
                    <a:cubicBezTo>
                      <a:pt x="12266" y="303"/>
                      <a:pt x="21600" y="9881"/>
                      <a:pt x="21600" y="21593"/>
                    </a:cubicBezTo>
                    <a:cubicBezTo>
                      <a:pt x="21600" y="25380"/>
                      <a:pt x="20604" y="29101"/>
                      <a:pt x="18712" y="32382"/>
                    </a:cubicBezTo>
                  </a:path>
                  <a:path stroke="0" w="21600" h="32382">
                    <a:moveTo>
                      <a:pt x="558" y="0"/>
                    </a:moveTo>
                    <a:cubicBezTo>
                      <a:pt x="12266" y="303"/>
                      <a:pt x="21600" y="9881"/>
                      <a:pt x="21600" y="21593"/>
                    </a:cubicBezTo>
                    <a:cubicBezTo>
                      <a:pt x="21600" y="25380"/>
                      <a:pt x="20604" y="29101"/>
                      <a:pt x="18712" y="32382"/>
                    </a:cubicBezTo>
                    <a:lnTo>
                      <a:pt x="0" y="21593"/>
                    </a:lnTo>
                    <a:lnTo>
                      <a:pt x="558" y="0"/>
                    </a:lnTo>
                    <a:close/>
                  </a:path>
                </a:pathLst>
              </a:custGeom>
              <a:noFill/>
              <a:ln w="36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16"/>
            <p:cNvGrpSpPr/>
            <p:nvPr/>
          </p:nvGrpSpPr>
          <p:grpSpPr>
            <a:xfrm>
              <a:off x="4121280" y="3548160"/>
              <a:ext cx="4041720" cy="2348640"/>
              <a:chOff x="4121280" y="3548160"/>
              <a:chExt cx="4041720" cy="2348640"/>
            </a:xfrm>
          </p:grpSpPr>
          <p:sp>
            <p:nvSpPr>
              <p:cNvPr id="142" name="Line 17"/>
              <p:cNvSpPr/>
              <p:nvPr/>
            </p:nvSpPr>
            <p:spPr>
              <a:xfrm>
                <a:off x="4452480" y="5414040"/>
                <a:ext cx="2013480" cy="108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8"/>
              <p:cNvSpPr/>
              <p:nvPr/>
            </p:nvSpPr>
            <p:spPr>
              <a:xfrm flipH="1">
                <a:off x="4452120" y="3911760"/>
                <a:ext cx="3132360" cy="150192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9"/>
              <p:cNvSpPr/>
              <p:nvPr/>
            </p:nvSpPr>
            <p:spPr>
              <a:xfrm flipH="1">
                <a:off x="6466320" y="3911760"/>
                <a:ext cx="1118880" cy="150192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20"/>
              <p:cNvSpPr/>
              <p:nvPr/>
            </p:nvSpPr>
            <p:spPr>
              <a:xfrm>
                <a:off x="6466320" y="5414040"/>
                <a:ext cx="1521360" cy="108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1"/>
              <p:cNvSpPr/>
              <p:nvPr/>
            </p:nvSpPr>
            <p:spPr>
              <a:xfrm>
                <a:off x="4121280" y="5177160"/>
                <a:ext cx="2462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22"/>
              <p:cNvSpPr/>
              <p:nvPr/>
            </p:nvSpPr>
            <p:spPr>
              <a:xfrm>
                <a:off x="6264360" y="5454720"/>
                <a:ext cx="2674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3"/>
              <p:cNvSpPr/>
              <p:nvPr/>
            </p:nvSpPr>
            <p:spPr>
              <a:xfrm>
                <a:off x="7242840" y="3548160"/>
                <a:ext cx="2462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4"/>
              <p:cNvSpPr/>
              <p:nvPr/>
            </p:nvSpPr>
            <p:spPr>
              <a:xfrm>
                <a:off x="7895520" y="5454720"/>
                <a:ext cx="2674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文本框 33"/>
          <p:cNvSpPr/>
          <p:nvPr/>
        </p:nvSpPr>
        <p:spPr>
          <a:xfrm>
            <a:off x="162000" y="911160"/>
            <a:ext cx="661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证：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D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证明：∵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B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B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D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D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"/>
          <p:cNvSpPr/>
          <p:nvPr/>
        </p:nvSpPr>
        <p:spPr>
          <a:xfrm>
            <a:off x="0" y="549360"/>
            <a:ext cx="89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推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三角形的外角大于任何一个与它不相邻的内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843280" y="1020600"/>
            <a:ext cx="3047400" cy="2882880"/>
            <a:chOff x="2843280" y="1020600"/>
            <a:chExt cx="3047400" cy="2882880"/>
          </a:xfrm>
        </p:grpSpPr>
        <p:sp>
          <p:nvSpPr>
            <p:cNvPr id="153" name="Line 7"/>
            <p:cNvSpPr/>
            <p:nvPr/>
          </p:nvSpPr>
          <p:spPr>
            <a:xfrm>
              <a:off x="3411360" y="3317760"/>
              <a:ext cx="2031480" cy="18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4349520" y="2527200"/>
              <a:ext cx="1093320" cy="7905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 flipH="1">
              <a:off x="3411360" y="1619280"/>
              <a:ext cx="2020320" cy="16984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5128920" y="102060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2843280" y="31543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5433840" y="338292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757320" y="201132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2"/>
          <p:cNvGrpSpPr/>
          <p:nvPr/>
        </p:nvGrpSpPr>
        <p:grpSpPr>
          <a:xfrm>
            <a:off x="380880" y="4340160"/>
            <a:ext cx="6752880" cy="833040"/>
            <a:chOff x="380880" y="4340160"/>
            <a:chExt cx="6752880" cy="833040"/>
          </a:xfrm>
        </p:grpSpPr>
        <mc:AlternateContent>
          <mc:Choice xmlns:a14="http://schemas.microsoft.com/office/drawing/2010/main" Requires="a14">
            <p:sp>
              <p:nvSpPr>
                <p:cNvPr id="161" name="Object 18"/>
                <p:cNvSpPr txBox="1"/>
                <p:nvPr/>
              </p:nvSpPr>
              <p:spPr>
                <a:xfrm>
                  <a:off x="380880" y="4402800"/>
                  <a:ext cx="3141720" cy="77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  <m:r>
                        <m:rPr>
                          <m:lit/>
                          <m:nor/>
                        </m:rPr>
                        <m:t xml:space="preserve">&gt;∠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Object 19"/>
                <p:cNvSpPr txBox="1"/>
                <p:nvPr/>
              </p:nvSpPr>
              <p:spPr>
                <a:xfrm>
                  <a:off x="3812400" y="4340160"/>
                  <a:ext cx="3321360" cy="80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  <m:r>
                        <m:rPr>
                          <m:lit/>
                          <m:nor/>
                        </m:rPr>
                        <m:t xml:space="preserve">&gt;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3" descr="SY01265_"/>
          <p:cNvPicPr/>
          <p:nvPr/>
        </p:nvPicPr>
        <p:blipFill>
          <a:blip r:embed="rId1"/>
          <a:stretch/>
        </p:blipFill>
        <p:spPr>
          <a:xfrm>
            <a:off x="8686800" y="6324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4" descr="039gaofe"/>
          <p:cNvPicPr/>
          <p:nvPr/>
        </p:nvPicPr>
        <p:blipFill>
          <a:blip r:embed="rId2"/>
          <a:stretch/>
        </p:blipFill>
        <p:spPr>
          <a:xfrm>
            <a:off x="0" y="6492960"/>
            <a:ext cx="365040" cy="3650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20"/>
          <p:cNvGrpSpPr/>
          <p:nvPr/>
        </p:nvGrpSpPr>
        <p:grpSpPr>
          <a:xfrm>
            <a:off x="959760" y="476280"/>
            <a:ext cx="4677480" cy="2999880"/>
            <a:chOff x="959760" y="476280"/>
            <a:chExt cx="4677480" cy="2999880"/>
          </a:xfrm>
        </p:grpSpPr>
        <p:sp>
          <p:nvSpPr>
            <p:cNvPr id="166" name="Rectangle 21"/>
            <p:cNvSpPr/>
            <p:nvPr/>
          </p:nvSpPr>
          <p:spPr>
            <a:xfrm>
              <a:off x="959760" y="476280"/>
              <a:ext cx="467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判断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</a:rPr>
                <a:t>∠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</a:rPr>
                <a:t>∠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大小，并说明理由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Picture 22" descr=""/>
            <p:cNvPicPr/>
            <p:nvPr/>
          </p:nvPicPr>
          <p:blipFill>
            <a:blip r:embed="rId3"/>
            <a:stretch/>
          </p:blipFill>
          <p:spPr>
            <a:xfrm>
              <a:off x="1135080" y="933120"/>
              <a:ext cx="4038480" cy="25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文本框 2"/>
          <p:cNvSpPr/>
          <p:nvPr/>
        </p:nvSpPr>
        <p:spPr>
          <a:xfrm>
            <a:off x="468360" y="378936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∵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A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&g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长城中学54</dc:creator>
  <dc:description/>
  <dc:language>en-US</dc:language>
  <cp:lastModifiedBy>长城中学107</cp:lastModifiedBy>
  <dcterms:modified xsi:type="dcterms:W3CDTF">2017-08-31T09:15:44Z</dcterms:modified>
  <cp:revision>76</cp:revision>
  <dc:subject/>
  <dc:title>三角形外角和</dc:title>
</cp:coreProperties>
</file>